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11BB-B88B-4B98-B7B9-C02E763D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omeone who thinks the world  mostly in 10 dimensional terms, I want to thank the organizers for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 speak at this conference and to come back to four dimensions for a wh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first carry out the first step. What we need is a convenient formalism to describe the rescatterings of a hard parton with the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al surface can be considered as the surface  spread by  the open string connecting the quark-anti-quark pair running along the Wilson lo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uesday you heard the talk by Son on the AdS/CFT computation of the shear viscosity in supersymmetric YM theories, the significance of which was also discussed by various speakers including Kapu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 would like to convince you that this beautiful story is only the beginning, the first chapter of a long story of the marriage between string theory and heavy ion collision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ater chapters, many mor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imental resu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ed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i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you the shear viscosity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focus on one of the chap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high energy limit the dominant effect of the medium produced in heavy ion collisions on a hard parton is medium induced Bresstrahlung, by emit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gluons. The energy loss can be described  by a pocket formula, which depends on a transport coefficient qhat. L here is the length of the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hat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haracterizes the ability of the medium to “quench” j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hysical terms qhat can be described as the transverse momentum square transfer per unit distance as the parton travels through the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al results can be explained by values of qhat between 5-15 Gev^2/fm. The challenge for theorists is to see whether such a big value  can arise from a first-principle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need new ideas and new techniques, since it is rather hard for standard lattice techniques to do such a calcu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lready mentioned by other speakers, here we can take advantage of some recent development in string theory. I will only have time to highlight some features which are relevant for my  discussion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S/CFT is an equivalence between a SYM theory and a string theory in AdS space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S spacetime is a homogenous space with a negative cosmological constant. It is very important that string theory lives one dimensional hig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put the gauge theory at finite T, which is then dual to a putting a BH in AdS. BH is a thermo system with a Hawking T. In this relation one identifie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of gauge theory with the Hawking 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 color and large coupling limit of the SYM is described by the classical limit of string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equence of this AdS/CFT correspondence is that …... Can be translate into a computation in classical gravity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irst need a suitable non-perturbative definition of q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0C9-9E40-45E3-AEFC-FAEC7A60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6AC-B32E-4D92-B755-BD1E294E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31F-DDCE-45F9-9B25-96F0B8B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1FB-38F5-46D1-A42A-C88B0755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B29-AC3F-44C2-A624-19EE8F33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AA7-F8A6-400A-AD0F-B832900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27B-1B10-4323-B381-89545E2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444-61E1-402D-899D-95E87A3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303-C78C-4DBE-9DDA-39C9007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407-093A-4B45-9429-E7064B2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33D-10F1-457D-9F06-ED6D863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3E4-F881-4210-B871-3A5E70E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DB0F-EEC8-4D47-8744-8333F0EA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lac.stanford.edu/spires/find/wwwhepau/wwwscan?rawcmd=fin+%22Lin,%20Feng-Li%22" TargetMode="External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ing theory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eavy ion collis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5000" y="4724280"/>
            <a:ext cx="5133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L, Krishna Rajagopal, Urs A. Wiedema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p-ph/0605178, PRL in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p-ph/0607062, submitted to P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5160" y="396252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: a non-perturbative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63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61960" y="438120"/>
                <a:ext cx="488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262160" y="4876920"/>
            <a:ext cx="64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rescatter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har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me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66680" y="4848120"/>
                <a:ext cx="381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124080" y="2590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96840" y="1636560"/>
            <a:ext cx="2530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: weakly 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057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6680" y="4343400"/>
            <a:ext cx="3245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: likely strongly 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52680" y="2514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52680" y="30481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oft scatter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for a particle propagating in the 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91720" cy="931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1760" y="571500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scatterings are captur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ight like Wilson lin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10200" y="121932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harov (1997); Wiedemann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8920" y="3505320"/>
            <a:ext cx="7842960" cy="1936800"/>
            <a:chOff x="538920" y="3505320"/>
            <a:chExt cx="7842960" cy="1936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09480" y="4267440"/>
              <a:ext cx="777240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38920" y="3505320"/>
              <a:ext cx="61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gh energy limit (eikonal approximatio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9520" y="27432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 non-perturbative definition of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058240" y="228600"/>
                <a:ext cx="476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542160" y="4114800"/>
            <a:ext cx="7763760" cy="2590920"/>
            <a:chOff x="542160" y="4114800"/>
            <a:chExt cx="7763760" cy="259092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924680" y="617220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676520" y="4495680"/>
              <a:ext cx="617220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146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um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600200" y="54860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160" y="5765760"/>
              <a:ext cx="3376440" cy="67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mal av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(Hard  to calculate using latt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6248520"/>
              <a:ext cx="37339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nperturbative definition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962520" y="533412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191120" y="4124160"/>
                  <a:ext cx="213336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709680" y="990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iedemann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1295280"/>
            <a:ext cx="9067680" cy="3124440"/>
            <a:chOff x="0" y="1295280"/>
            <a:chExt cx="9067680" cy="312444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1295280"/>
              <a:ext cx="4572000" cy="3124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2535120" y="1916280"/>
                  <a:ext cx="3682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572000" y="2133720"/>
              <a:ext cx="44956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86280" y="2895480"/>
              <a:ext cx="307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jugate to the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8280" y="152388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ght-like Wilson loop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19000" y="1857240"/>
              <a:ext cx="274320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10080" y="1828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38080" y="2286000"/>
              <a:ext cx="274320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6880" y="3352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676520" y="2467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514240" y="228600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1080" y="3541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906800" y="3429000"/>
                  <a:ext cx="427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5135760" y="3459240"/>
              <a:ext cx="32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ngth of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ilson loop from AdS/C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46960" y="2938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210280"/>
            <a:ext cx="5790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ack hole in AdS space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l coordinate 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: r=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 r surface: (3+1)-dim Minkowski spac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17760" y="47671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06760" y="4767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22920" y="4589640"/>
                <a:ext cx="2574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99240" y="3268800"/>
                <a:ext cx="7192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=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00720" y="137160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0040" y="990720"/>
            <a:ext cx="41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dacena (1998); Rey and Yee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333440"/>
            <a:ext cx="3581280" cy="7714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16680" y="2252520"/>
            <a:ext cx="5923800" cy="1371600"/>
            <a:chOff x="616680" y="2252520"/>
            <a:chExt cx="5923800" cy="1371600"/>
          </a:xfrm>
        </p:grpSpPr>
        <p:sp>
          <p:nvSpPr>
            <p:cNvPr id="162" name=""/>
            <p:cNvSpPr/>
            <p:nvPr/>
          </p:nvSpPr>
          <p:spPr>
            <a:xfrm>
              <a:off x="1470240" y="257004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680" y="2252520"/>
              <a:ext cx="23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+1)-dim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l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82680" y="2938320"/>
              <a:ext cx="5257800" cy="685800"/>
            </a:xfrm>
            <a:prstGeom prst="parallelogram">
              <a:avLst>
                <a:gd name="adj" fmla="val 191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78120" y="2328840"/>
            <a:ext cx="5825880" cy="1143000"/>
            <a:chOff x="2778120" y="2328840"/>
            <a:chExt cx="5825880" cy="1143000"/>
          </a:xfrm>
        </p:grpSpPr>
        <p:sp>
          <p:nvSpPr>
            <p:cNvPr id="166" name=""/>
            <p:cNvSpPr/>
            <p:nvPr/>
          </p:nvSpPr>
          <p:spPr>
            <a:xfrm flipV="1">
              <a:off x="2997000" y="3090960"/>
              <a:ext cx="243864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78120" y="3071880"/>
              <a:ext cx="24382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3040" y="34624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75000" y="308160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022360" y="263376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1520" y="232884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ilson loop C in our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00240" y="3610080"/>
            <a:ext cx="2133720" cy="114300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>
              <a:alpha val="3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76236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rea of string worldsheet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1800" y="3838680"/>
                <a:ext cx="59220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inding S(C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63800" y="5181480"/>
            <a:ext cx="32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ore difficult t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  Catenary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447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son loop can be considered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acetime trajectories of a quark and antiquark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895480"/>
            <a:ext cx="45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: open string connecting the quark pair c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nture into the radial dimen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31496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S (C) : find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hape of the 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ging from the  spatial infinity of a black ho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ape of the 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343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ing hangs down from infinity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uches the horiz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66880" y="1405080"/>
            <a:ext cx="4191120" cy="2633400"/>
            <a:chOff x="2666880" y="1405080"/>
            <a:chExt cx="4191120" cy="2633400"/>
          </a:xfrm>
        </p:grpSpPr>
        <p:sp>
          <p:nvSpPr>
            <p:cNvPr id="185" name=""/>
            <p:cNvSpPr/>
            <p:nvPr/>
          </p:nvSpPr>
          <p:spPr>
            <a:xfrm>
              <a:off x="4578840" y="3581280"/>
              <a:ext cx="54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=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666880" y="1455840"/>
              <a:ext cx="4191120" cy="25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09520" y="140508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5029200" y="1428840"/>
                  <a:ext cx="3808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" name=""/>
          <p:cNvSpPr/>
          <p:nvPr/>
        </p:nvSpPr>
        <p:spPr>
          <a:xfrm>
            <a:off x="1447920" y="50292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between the quark and th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0292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he string with the horizon of a black hol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00ff"/>
                </a:solidFill>
                <a:latin typeface="Lucida Calligraphy"/>
              </a:rPr>
              <a:t>N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=4 SYM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number of scattering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828800" y="152280"/>
                <a:ext cx="666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51320" y="5791320"/>
            <a:ext cx="58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estimates:  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1935000"/>
                <a:ext cx="5791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49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MPS transport coefficient 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57520" y="3784680"/>
            <a:ext cx="6076800" cy="1620720"/>
            <a:chOff x="857520" y="3784680"/>
            <a:chExt cx="6076800" cy="162072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743200" y="4800600"/>
                  <a:ext cx="32130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Y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 Ge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/fm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192400" y="3784680"/>
                  <a:ext cx="474192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r>
                        <m:rPr>
                          <m:lit/>
                          <m:nor/>
                        </m:rPr>
                        <m:t xml:space="preserve"> Me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857520" y="39625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1695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et quenching in a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7760" y="1371600"/>
            <a:ext cx="8024400" cy="3790800"/>
            <a:chOff x="1067760" y="1371600"/>
            <a:chExt cx="8024400" cy="379080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981080" y="4705200"/>
                  <a:ext cx="392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905120" y="3733920"/>
                  <a:ext cx="380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067760" y="1371600"/>
              <a:ext cx="768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have assumed that the medium is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in reali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tuations the medium itself can b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ving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920"/>
              <a:ext cx="553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the angle between the velocities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quark and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362320" y="2362320"/>
                  <a:ext cx="464796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V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</m:d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7532280" y="239868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HL,Rajago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iedem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7440" y="4648320"/>
              <a:ext cx="340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locity of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25120" y="5181480"/>
            <a:ext cx="5423400" cy="1447920"/>
            <a:chOff x="825120" y="5181480"/>
            <a:chExt cx="5423400" cy="1447920"/>
          </a:xfrm>
        </p:grpSpPr>
        <p:grpSp>
          <p:nvGrpSpPr>
            <p:cNvPr id="213" name=""/>
            <p:cNvGrpSpPr/>
            <p:nvPr/>
          </p:nvGrpSpPr>
          <p:grpSpPr>
            <a:xfrm>
              <a:off x="825120" y="5181480"/>
              <a:ext cx="5118480" cy="793800"/>
              <a:chOff x="825120" y="5181480"/>
              <a:chExt cx="5118480" cy="793800"/>
            </a:xfrm>
          </p:grpSpPr>
          <mc:AlternateContent>
            <mc:Choice xmlns:a14="http://schemas.microsoft.com/office/drawing/2010/main" Requires="a14">
              <p:sp>
                <p:nvSpPr>
                  <p:cNvPr id="214" name=""/>
                  <p:cNvSpPr txBox="1"/>
                  <p:nvPr/>
                </p:nvSpPr>
                <p:spPr>
                  <a:xfrm>
                    <a:off x="2514600" y="5181480"/>
                    <a:ext cx="342900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5" name=""/>
              <p:cNvSpPr/>
              <p:nvPr/>
            </p:nvSpPr>
            <p:spPr>
              <a:xfrm>
                <a:off x="825120" y="5373720"/>
                <a:ext cx="145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ampl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971800" y="6031080"/>
                  <a:ext cx="32767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Y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QGP of QCD, the energy loss of a high energy parton can be describ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turba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 non-perturbati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et-quenching 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culate the parameter in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 SYM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cessar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 energy loss of SY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ppears to be close to the experimental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105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the agreement meaning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agreement meaning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ymptotic freedo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ral conden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ynamical quarks, 6 scalar and 4 Weyl fermionic fields in the adjoint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3080" y="2746440"/>
            <a:ext cx="216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ar vacu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very high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very different from that of Q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752480"/>
            <a:ext cx="762120" cy="4191120"/>
          </a:xfrm>
          <a:custGeom>
            <a:avLst/>
            <a:gdLst>
              <a:gd name="textAreaLeft" fmla="*/ 0 w 762120"/>
              <a:gd name="textAreaRight" fmla="*/ 275040 w 7621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960" y="101772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4 SY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ing theory and heavy ion coll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0200" y="3657600"/>
            <a:ext cx="71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I would like to convince you this is likely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irst chap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long 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6920" y="502920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r chapters, many mo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erimental 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ed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di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ad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8200" y="1828800"/>
            <a:ext cx="77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S/CFT computation of the shear viscos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``explain’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erfect fl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a universal low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990720"/>
            <a:ext cx="1295280" cy="914400"/>
          </a:xfrm>
          <a:prstGeom prst="wedgeRectCallout">
            <a:avLst>
              <a:gd name="adj1" fmla="val -97550"/>
              <a:gd name="adj2" fmla="val 58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and Kapusta’s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ymptotic freedo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ymmetric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dly broke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ral conden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ynamical quarks, 6 scalars and 4 fermions in the adjoint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06668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4 SYM at finit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108576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CD at T ~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3 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agreement meaningful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628640"/>
            <a:ext cx="388620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conformal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rinsic properties of s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taken care of 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per no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ybe the agreement is not an accident after all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1676520"/>
                <a:ext cx="5790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261440" y="5029200"/>
            <a:ext cx="5673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estimates:  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24120" y="3967200"/>
                <a:ext cx="321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 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f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173320" y="2895480"/>
                <a:ext cx="4741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 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39880" y="3129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240" y="5943600"/>
            <a:ext cx="830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ea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/CFT calculation is in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fin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f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or other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formal field theories (CFT) with a gravity dual: (large N and strong cou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610320" y="22035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47920" y="2286000"/>
                <a:ext cx="24382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F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F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1476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830840" y="2666880"/>
            <a:ext cx="29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ntral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981080" y="30492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5720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 near conformal:  correction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41972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coupling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ion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5105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ch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0000" y="3733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u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52578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, Matsuo, Avramis, Sfetsos, Armesto,Edelstein, Mas,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……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20600" y="449568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rmesto, Edelstein and 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01760" y="579132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 mall when chemical potential is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rag force for heavy quarks  in </a:t>
            </a: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4 S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2000" y="106668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Herzog, Karch, Kovtun, Kozcaz, Yaffe; Gubser, 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2320" y="1447920"/>
            <a:ext cx="7770960" cy="1523880"/>
            <a:chOff x="382320" y="1447920"/>
            <a:chExt cx="7770960" cy="15238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172200" y="2163960"/>
              <a:ext cx="198108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4038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82320" y="1447920"/>
              <a:ext cx="726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ag force for a heavy quark moving in the medium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2960" y="3048120"/>
            <a:ext cx="8452440" cy="1295280"/>
            <a:chOff x="462960" y="3048120"/>
            <a:chExt cx="8452440" cy="1295280"/>
          </a:xfrm>
        </p:grpSpPr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3772080" y="3519360"/>
              <a:ext cx="19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781680" y="3610080"/>
              <a:ext cx="213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Casalderrey-Solana, Tean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" y="3048120"/>
              <a:ext cx="44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uctuation-dissipation theor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3600" y="30481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1280" y="3160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640" y="3657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ffusion coefficient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524600" y="5410080"/>
            <a:ext cx="4844520" cy="533520"/>
            <a:chOff x="1524600" y="5410080"/>
            <a:chExt cx="4844520" cy="533520"/>
          </a:xfrm>
        </p:grpSpPr>
        <p:sp>
          <p:nvSpPr>
            <p:cNvPr id="267" name=""/>
            <p:cNvSpPr/>
            <p:nvPr/>
          </p:nvSpPr>
          <p:spPr>
            <a:xfrm>
              <a:off x="1524600" y="5450040"/>
              <a:ext cx="44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ote: D can not be used to fin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035760" y="54100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"/>
          <p:cNvSpPr/>
          <p:nvPr/>
        </p:nvSpPr>
        <p:spPr>
          <a:xfrm>
            <a:off x="560520" y="419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83760" y="4343400"/>
            <a:ext cx="8683920" cy="977760"/>
            <a:chOff x="383760" y="4343400"/>
            <a:chExt cx="8683920" cy="977760"/>
          </a:xfrm>
        </p:grpSpPr>
        <p:sp>
          <p:nvSpPr>
            <p:cNvPr id="271" name=""/>
            <p:cNvSpPr/>
            <p:nvPr/>
          </p:nvSpPr>
          <p:spPr>
            <a:xfrm>
              <a:off x="383760" y="4495680"/>
              <a:ext cx="651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 is possible to analyze the energy flow patte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indications of conical flow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4920" y="4343400"/>
              <a:ext cx="201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Friess,Gub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Michalogiorgakis, Puf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60920" y="6019920"/>
            <a:ext cx="88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ctuation-dissipation theorem assumes the quark is in equilibrium with the medi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pply to high energy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1480" y="2514600"/>
            <a:ext cx="78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n+1: Quarkonium sup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di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LHC or RHIC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Quarkonium suppression at high 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800" y="129852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discussed above can also be used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reening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tween a quark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7240" y="236232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c qua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eat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tice cal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5160" y="3048120"/>
            <a:ext cx="76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quarks produced in heavy ion collisions 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medium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rd to do using lat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2120" y="4089240"/>
            <a:ext cx="6324120" cy="1549440"/>
            <a:chOff x="762120" y="4089240"/>
            <a:chExt cx="6324120" cy="154944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447560" y="4698720"/>
              <a:ext cx="563868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4089240"/>
              <a:ext cx="45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S/CFT: (for conformal theor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36240" y="4038480"/>
            <a:ext cx="8809560" cy="2654280"/>
            <a:chOff x="336240" y="4038480"/>
            <a:chExt cx="8809560" cy="2654280"/>
          </a:xfrm>
        </p:grpSpPr>
        <p:sp>
          <p:nvSpPr>
            <p:cNvPr id="283" name=""/>
            <p:cNvSpPr/>
            <p:nvPr/>
          </p:nvSpPr>
          <p:spPr>
            <a:xfrm>
              <a:off x="336240" y="5867280"/>
              <a:ext cx="880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vy quark mesons with larger velocity disassociate at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er temperature:  effect may be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ignificant at RHIC II or LH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038480"/>
              <a:ext cx="1828800" cy="914400"/>
            </a:xfrm>
            <a:prstGeom prst="wedgeRectCallout">
              <a:avLst>
                <a:gd name="adj1" fmla="val 13370"/>
                <a:gd name="adj2" fmla="val 1920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e Urs Wiedemann’s ta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24852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L,Rajagopal,Wiede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s: a nice honey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/CFT provides powerful tools to understand dynamics of strong coupled gauge the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pters to be written for  the marriage between string theory and physics  of QCD in extre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11280" y="274680"/>
            <a:ext cx="5056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52720" y="175248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n: AdS/CFT and Jet que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76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on energy loss in Q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47920" y="4013280"/>
            <a:ext cx="6898680" cy="939600"/>
            <a:chOff x="1447920" y="4013280"/>
            <a:chExt cx="6898680" cy="93960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47920" y="4013280"/>
                  <a:ext cx="2819160" cy="93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E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489640" y="4260600"/>
              <a:ext cx="28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Baier, Dokshitzer, Muelle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Peigne, Schiff (1996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163520" y="5105520"/>
            <a:ext cx="7295040" cy="533160"/>
            <a:chOff x="1163520" y="5105520"/>
            <a:chExt cx="7295040" cy="5331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163520" y="5105520"/>
                  <a:ext cx="333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1419840" y="5133960"/>
              <a:ext cx="703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flects the ability of the medium to “quench” jet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280" y="1447920"/>
            <a:ext cx="8686800" cy="2438280"/>
            <a:chOff x="152280" y="1447920"/>
            <a:chExt cx="8686800" cy="24382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5181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1523880"/>
              <a:ext cx="3504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ominant effect of the medium on a high energy parton is medium-induced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remsstrahlun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71760" y="5638680"/>
            <a:ext cx="6957720" cy="1028880"/>
            <a:chOff x="1571760" y="5638680"/>
            <a:chExt cx="6957720" cy="10288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4276800" y="605808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571760" y="5638680"/>
                  <a:ext cx="1971720" cy="10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d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</m:t>
                      </m:r>
                      <m:f>
                        <m:num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267000" y="5934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62640" y="6010200"/>
              <a:ext cx="16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Debye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1840" y="6010200"/>
              <a:ext cx="19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mean free pa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391440" y="6010200"/>
                  <a:ext cx="3171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571760"/>
            <a:ext cx="6858000" cy="444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47440" y="609480"/>
            <a:ext cx="73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first principle comput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77320" y="447840"/>
                <a:ext cx="52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283200" y="609588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19320" y="6019920"/>
                <a:ext cx="333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theoretical techniques for dealing with strongly coupled problem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ttice calc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tice techniques are not well adapted to calcul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port coeffic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ynamical 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y s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4560" y="914400"/>
            <a:ext cx="66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w theoretical technique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dS/CFT correspo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86400" y="392436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gravity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240" y="17524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-Yang-Mills theor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U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0666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dacena (1997), Gubser, Klebanov,Polyakov; Witten (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o bo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yna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mo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720" y="4800600"/>
            <a:ext cx="7962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 observable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inite 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infinite 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981080"/>
            <a:ext cx="914400" cy="381240"/>
          </a:xfrm>
          <a:prstGeom prst="leftRightArrow">
            <a:avLst>
              <a:gd name="adj1" fmla="val 50000"/>
              <a:gd name="adj2" fmla="val 47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2920" y="190512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ing theor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0640" y="3657600"/>
            <a:ext cx="2957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upling li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297180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72080" y="2914560"/>
            <a:ext cx="28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hole in Ad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88620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-perturb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tion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    in strongly coupled Super-Yang-Mills theory using AdS/C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734160" y="2076480"/>
                <a:ext cx="4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90760" y="367668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429000" y="838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6600" y="541008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trategy was used to compute the shear visco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6553080" cy="99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-Yang-Mills theory 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1520" y="2898720"/>
            <a:ext cx="63486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QGP of </a:t>
            </a: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M to understand sQGP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far-fe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88840" y="4800600"/>
            <a:ext cx="3432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 data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40Z</dcterms:created>
  <dc:creator>Pepe</dc:creator>
  <dc:description/>
  <dc:language>en-US</dc:language>
  <cp:lastModifiedBy>Pepe</cp:lastModifiedBy>
  <dcterms:modified xsi:type="dcterms:W3CDTF">2006-11-16T00:58:50Z</dcterms:modified>
  <cp:revision>107</cp:revision>
  <dc:subject/>
  <dc:title>String theory, black holes and relativistic heavy ion collisions</dc:title>
</cp:coreProperties>
</file>