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wmf" ContentType="image/x-wmf"/>
  <Override PartName="/ppt/media/image3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9867-0827-4E2F-8897-3F5E74A70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someone who thinks the world  mostly in 10 dimensional terms, I want to thank the organizers for th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to speak at this conference and to come back to four dimensions for a whi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first carry out the first step. What we need is a convenient formalism to describe the rescatterings of a hard parton with the med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nimal surface can be considered as the surface  spread by  the open string connecting the quark-anti-quark pair running along the Wilson loop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uesday you heard the talk by Son on the AdS/CFT computation of the shear viscosity in supersymmetric YM theories, the significance of which was also discussed by various speakers including Kapus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 would like to convince you that this beautiful story is only the beginning, the first chapter of a long story of the marriage between string theory and heavy ion collisions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later chapters, many more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experimental resul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u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explained,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redictio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you the shear viscosity 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I will focus on one of the chap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high energy limit the dominant effect of the medium produced in heavy ion collisions on a hard parton is medium induced Bresstrahlung, by emit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gluons. The energy loss can be described  by a pocket formula, which depends on a transport coefficient qhat. L here is the length of the med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hat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haracterizes the ability of the medium to “quench” j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hysical terms qhat can be described as the transverse momentum square transfer per unit distance as the parton travels through the med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imental results can be explained by values of qhat between 5-15 Gev^2/fm. The challenge for theorists is to see whether such a big value  can arise from a first-principle calc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need new ideas and new techniques, since it is rather hard for standard lattice techniques to do such a calcul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lready mentioned by other speakers, here we can take advantage of some recent development in string theory. I will only have time to highlight some features which are relevant for my  discussion bel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S/CFT is an equivalence between a SYM theory and a string theory in AdS spacet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S spacetime is a homogenous space with a negative cosmological constant. It is very important that string theory lives one dimensional highe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lso put the gauge theory at finite T, which is then dual to a putting a BH in AdS. BH is a thermo system with a Hawking T. In this relation one identifie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of gauge theory with the Hawking 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rge color and large coupling limit of the SYM is described by the classical limit of string the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sequence of this AdS/CFT correspondence is that …... Can be translate into a computation in classical gravity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irst need a suitable non-perturbative definition of qh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6B83-4174-4795-8EDE-905270242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1483-AE9B-44FE-8987-100FAFA4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9B53-89D3-4BDB-9335-638C3C4AE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F463-879B-48C5-BAA1-06184A1BE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98B8-3CE4-4B2C-BD7B-8AD08D01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124D-21BA-4324-A012-EDC76333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38B8-2DD6-455B-B4D6-7148AF90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87EE-9108-4970-9A7D-9F04951B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5BAA-335A-4A54-8F7B-D4627EB8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1D69-8EF6-49A1-A845-61F581D0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1B14-E1BB-406B-B3E9-D730B5C8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2210-BFCE-4910-8B49-1AC5AA74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1B6A-5C88-48A3-8BDB-1692BAAAA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lac.stanford.edu/spires/find/wwwhepau/wwwscan?rawcmd=fin+%22Lin,%20Feng-Li%22" TargetMode="External"/><Relationship Id="rId2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String theory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and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heavy ion collision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32763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ng L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05000" y="4724280"/>
            <a:ext cx="5133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L, Krishna Rajagopal, Urs A. Wiedeman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ep-ph/0605178, PRL in 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ep-ph/0607062, submitted to PR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o ap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5160" y="3962520"/>
            <a:ext cx="53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achusetts Institute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: a non-perturbative form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238880" cy="2635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61960" y="438120"/>
                <a:ext cx="4888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1262160" y="4876920"/>
            <a:ext cx="64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ultiple rescatter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hard p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the medi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066680" y="4848120"/>
                <a:ext cx="3812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124080" y="2590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96840" y="1636560"/>
            <a:ext cx="25308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: weakly coup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71800" y="20574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96680" y="4343400"/>
            <a:ext cx="32454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: likely strongly coup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352680" y="2514600"/>
            <a:ext cx="6098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352680" y="3048120"/>
            <a:ext cx="16002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Soft scattering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litude for a particle propagating in the medi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8991720" cy="931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31760" y="5715000"/>
            <a:ext cx="90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 scatterings are captured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Light like Wilson lines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10200" y="1219320"/>
            <a:ext cx="39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harov (1997); Wiedemann (2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38920" y="3505320"/>
            <a:ext cx="7842960" cy="1936800"/>
            <a:chOff x="538920" y="3505320"/>
            <a:chExt cx="7842960" cy="193680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609480" y="4267440"/>
              <a:ext cx="7772400" cy="11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538920" y="3505320"/>
              <a:ext cx="614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igh energy limit (eikonal approximation)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9520" y="274320"/>
            <a:ext cx="83059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A non-perturbative definition of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8058240" y="228600"/>
                <a:ext cx="4762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126" name=""/>
          <p:cNvGrpSpPr/>
          <p:nvPr/>
        </p:nvGrpSpPr>
        <p:grpSpPr>
          <a:xfrm>
            <a:off x="542160" y="4114800"/>
            <a:ext cx="7763760" cy="2590920"/>
            <a:chOff x="542160" y="4114800"/>
            <a:chExt cx="7763760" cy="2590920"/>
          </a:xfrm>
        </p:grpSpPr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7924680" y="6172200"/>
                  <a:ext cx="33336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q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1676520" y="4495680"/>
              <a:ext cx="6172200" cy="14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514600" y="41148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ssum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1600200" y="548604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2160" y="5765760"/>
              <a:ext cx="3376440" cy="67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rmal ave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(Hard  to calculate using latt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0" y="6248520"/>
              <a:ext cx="373392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Nonperturbative definition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3962520" y="5334120"/>
              <a:ext cx="16761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4191120" y="4124160"/>
                  <a:ext cx="2133360" cy="43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L</m:t>
                          </m:r>
                        </m:e>
                        <m:sup>
                          <m:r>
                            <m:t xml:space="preserve">−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&gt;&gt;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T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&gt;&gt;</m:t>
                      </m:r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5" name=""/>
          <p:cNvSpPr/>
          <p:nvPr/>
        </p:nvSpPr>
        <p:spPr>
          <a:xfrm>
            <a:off x="6709680" y="99072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Wiedemann (2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0" y="1295280"/>
            <a:ext cx="9067680" cy="3124440"/>
            <a:chOff x="0" y="1295280"/>
            <a:chExt cx="9067680" cy="3124440"/>
          </a:xfrm>
        </p:grpSpPr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>
              <a:off x="0" y="1295280"/>
              <a:ext cx="4572000" cy="31244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2535120" y="1916280"/>
                  <a:ext cx="368280" cy="43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L</m:t>
                          </m:r>
                        </m:e>
                        <m:sup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4572000" y="2133720"/>
              <a:ext cx="44956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4886280" y="2895480"/>
              <a:ext cx="3073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jugate to the 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58280" y="1523880"/>
              <a:ext cx="314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ght-like Wilson loop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819000" y="1857240"/>
              <a:ext cx="2743200" cy="152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10080" y="18288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838080" y="2286000"/>
              <a:ext cx="274320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866880" y="335268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1676520" y="246708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2514240" y="2286000"/>
              <a:ext cx="10666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61080" y="35416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4906800" y="3429000"/>
                  <a:ext cx="42732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L</m:t>
                          </m:r>
                        </m:e>
                        <m:sup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"/>
            <p:cNvSpPr/>
            <p:nvPr/>
          </p:nvSpPr>
          <p:spPr>
            <a:xfrm>
              <a:off x="5135760" y="3459240"/>
              <a:ext cx="32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: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ength of the med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Wilson loop from AdS/C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546960" y="293832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33720" y="5210280"/>
            <a:ext cx="57909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lack hole in AdS spaceti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l coordinate 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rizon: r=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tant r surface: (3+1)-dim Minkowski space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17760" y="4767120"/>
            <a:ext cx="50292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06760" y="476712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r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6622920" y="4589640"/>
                <a:ext cx="25740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699240" y="3268800"/>
                <a:ext cx="7192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=¥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900720" y="1371600"/>
            <a:ext cx="13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ip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30040" y="990720"/>
            <a:ext cx="41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dacena (1998); Rey and Yee (19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14600" y="1333440"/>
            <a:ext cx="3581280" cy="771480"/>
          </a:xfrm>
          <a:prstGeom prst="rect">
            <a:avLst/>
          </a:prstGeom>
          <a:ln w="0">
            <a:noFill/>
          </a:ln>
        </p:spPr>
      </p:pic>
      <p:grpSp>
        <p:nvGrpSpPr>
          <p:cNvPr id="161" name=""/>
          <p:cNvGrpSpPr/>
          <p:nvPr/>
        </p:nvGrpSpPr>
        <p:grpSpPr>
          <a:xfrm>
            <a:off x="616680" y="2252520"/>
            <a:ext cx="5923800" cy="1371600"/>
            <a:chOff x="616680" y="2252520"/>
            <a:chExt cx="5923800" cy="1371600"/>
          </a:xfrm>
        </p:grpSpPr>
        <p:sp>
          <p:nvSpPr>
            <p:cNvPr id="162" name=""/>
            <p:cNvSpPr/>
            <p:nvPr/>
          </p:nvSpPr>
          <p:spPr>
            <a:xfrm>
              <a:off x="1470240" y="2570040"/>
              <a:ext cx="18288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6680" y="2252520"/>
              <a:ext cx="234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ur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3+1)-dim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world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82680" y="2938320"/>
              <a:ext cx="5257800" cy="685800"/>
            </a:xfrm>
            <a:prstGeom prst="parallelogram">
              <a:avLst>
                <a:gd name="adj" fmla="val 191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2778120" y="2328840"/>
            <a:ext cx="5825880" cy="1143000"/>
            <a:chOff x="2778120" y="2328840"/>
            <a:chExt cx="5825880" cy="1143000"/>
          </a:xfrm>
        </p:grpSpPr>
        <p:sp>
          <p:nvSpPr>
            <p:cNvPr id="166" name=""/>
            <p:cNvSpPr/>
            <p:nvPr/>
          </p:nvSpPr>
          <p:spPr>
            <a:xfrm flipV="1">
              <a:off x="2997000" y="3090960"/>
              <a:ext cx="243864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78120" y="3071880"/>
              <a:ext cx="243828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13040" y="3462480"/>
              <a:ext cx="228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75000" y="3081600"/>
              <a:ext cx="228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5022360" y="2633760"/>
              <a:ext cx="1676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851520" y="2328840"/>
              <a:ext cx="175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Wilson loop C in our wor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3000240" y="3610080"/>
            <a:ext cx="2133720" cy="114300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251280 h 1143000"/>
              <a:gd name="textAreaBottom" fmla="*/ 891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0000">
              <a:alpha val="34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376236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area of string worldsheet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undary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61800" y="3838680"/>
                <a:ext cx="592200" cy="26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Finding S(C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4120" y="160020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563800" y="5181480"/>
            <a:ext cx="324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more difficult th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the  Catenary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9960" y="1712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144792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son loop can be considered a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spacetime trajectories of a quark and antiquark p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2895480"/>
            <a:ext cx="451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: open string connecting the quark pair ca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nture into the radial dimensio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431496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S (C) : finding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shape of the 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ging from the  spatial infinity of a black hole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Shape of the st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43434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ing hangs down from infinity an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ouches the horiz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666880" y="1405080"/>
            <a:ext cx="4191120" cy="2633400"/>
            <a:chOff x="2666880" y="1405080"/>
            <a:chExt cx="4191120" cy="2633400"/>
          </a:xfrm>
        </p:grpSpPr>
        <p:sp>
          <p:nvSpPr>
            <p:cNvPr id="185" name=""/>
            <p:cNvSpPr/>
            <p:nvPr/>
          </p:nvSpPr>
          <p:spPr>
            <a:xfrm>
              <a:off x="4578840" y="3581280"/>
              <a:ext cx="540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=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2666880" y="1455840"/>
              <a:ext cx="4191120" cy="25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4709520" y="1405080"/>
              <a:ext cx="37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5029200" y="1428840"/>
                  <a:ext cx="380880" cy="31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9" name=""/>
          <p:cNvSpPr/>
          <p:nvPr/>
        </p:nvSpPr>
        <p:spPr>
          <a:xfrm>
            <a:off x="1447920" y="502920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s between the quark and the me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86400" y="502920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 of the string with the horizon of a black hole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548640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of </a:t>
            </a:r>
            <a:r>
              <a:rPr b="0" lang="en-US" sz="4400" spc="-1" strike="noStrike">
                <a:solidFill>
                  <a:srgbClr val="0000ff"/>
                </a:solidFill>
                <a:latin typeface="Lucida Calligraphy"/>
              </a:rPr>
              <a:t>N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=4 SYM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7720" y="31240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rtional to number of scattering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828800" y="152280"/>
                <a:ext cx="66672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751320" y="5791320"/>
            <a:ext cx="58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estimates:  5-15 Ge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f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828800" y="1935000"/>
                <a:ext cx="579132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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λ</m:t>
                        </m:r>
                      </m:e>
                    </m:rad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t xml:space="preserve">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rad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4920" y="12952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MPS transport coefficient rea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857520" y="3784680"/>
            <a:ext cx="6076800" cy="1620720"/>
            <a:chOff x="857520" y="3784680"/>
            <a:chExt cx="6076800" cy="1620720"/>
          </a:xfrm>
        </p:grpSpPr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2743200" y="4800600"/>
                  <a:ext cx="321300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q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YM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5 GeV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/fm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2192400" y="3784680"/>
                  <a:ext cx="4741920" cy="85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,</m:t>
                      </m:r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00</m:t>
                      </m:r>
                      <m:r>
                        <m:rPr>
                          <m:lit/>
                          <m:nor/>
                        </m:rPr>
                        <m:t xml:space="preserve"> Me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1" name=""/>
            <p:cNvSpPr/>
            <p:nvPr/>
          </p:nvSpPr>
          <p:spPr>
            <a:xfrm>
              <a:off x="857520" y="3962520"/>
              <a:ext cx="121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ake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257800" y="1295280"/>
            <a:ext cx="169560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Jet quenching in a w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067760" y="1371600"/>
            <a:ext cx="8024400" cy="3790800"/>
            <a:chOff x="1067760" y="1371600"/>
            <a:chExt cx="8024400" cy="3790800"/>
          </a:xfrm>
        </p:grpSpPr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1981080" y="4705200"/>
                  <a:ext cx="3924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1905120" y="3733920"/>
                  <a:ext cx="38088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7" name=""/>
            <p:cNvSpPr/>
            <p:nvPr/>
          </p:nvSpPr>
          <p:spPr>
            <a:xfrm>
              <a:off x="1067760" y="1371600"/>
              <a:ext cx="7687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 have assumed that the medium is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stati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in realisti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tuations the medium itself can be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moving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28800" y="3733920"/>
              <a:ext cx="5537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the angle between the velocities of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quark and the med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2362320" y="2362320"/>
                  <a:ext cx="4647960" cy="11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q</m:t>
                          </m:r>
                        </m:e>
                      </m:acc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V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V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θ</m:t>
                          </m:r>
                        </m:e>
                      </m:d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q</m:t>
                              </m:r>
                            </m:e>
                          </m:acc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0" name=""/>
            <p:cNvSpPr/>
            <p:nvPr/>
          </p:nvSpPr>
          <p:spPr>
            <a:xfrm>
              <a:off x="7532280" y="2398680"/>
              <a:ext cx="155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HL,Rajagop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Wiedeman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287440" y="4648320"/>
              <a:ext cx="340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elocity of the med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825120" y="5181480"/>
            <a:ext cx="5423400" cy="1447920"/>
            <a:chOff x="825120" y="5181480"/>
            <a:chExt cx="5423400" cy="1447920"/>
          </a:xfrm>
        </p:grpSpPr>
        <p:grpSp>
          <p:nvGrpSpPr>
            <p:cNvPr id="213" name=""/>
            <p:cNvGrpSpPr/>
            <p:nvPr/>
          </p:nvGrpSpPr>
          <p:grpSpPr>
            <a:xfrm>
              <a:off x="825120" y="5181480"/>
              <a:ext cx="5118480" cy="793800"/>
              <a:chOff x="825120" y="5181480"/>
              <a:chExt cx="5118480" cy="793800"/>
            </a:xfrm>
          </p:grpSpPr>
          <mc:AlternateContent>
            <mc:Choice xmlns:a14="http://schemas.microsoft.com/office/drawing/2010/main" Requires="a14">
              <p:sp>
                <p:nvSpPr>
                  <p:cNvPr id="214" name=""/>
                  <p:cNvSpPr txBox="1"/>
                  <p:nvPr/>
                </p:nvSpPr>
                <p:spPr>
                  <a:xfrm>
                    <a:off x="2514600" y="5181480"/>
                    <a:ext cx="3429000" cy="793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15" name=""/>
              <p:cNvSpPr/>
              <p:nvPr/>
            </p:nvSpPr>
            <p:spPr>
              <a:xfrm>
                <a:off x="825120" y="5373720"/>
                <a:ext cx="1450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Example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2971800" y="6031080"/>
                  <a:ext cx="3276720" cy="5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q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YM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  <m:f>
                        <m:fPr>
                          <m:type m:val="lin"/>
                        </m:fPr>
                        <m:num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GeV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fm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QGP of QCD, the energy loss of a high energy parton can be describe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erturbative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p to a non-perturbativ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jet-quenching parame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lculate the parameter in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4 SYM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ecessari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ll energy loss of SY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appears to be close to the experimental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51055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 the agreement meaningfu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s agreement meaningfu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5410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symptotic freedo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nfi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sym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hiral condens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ynamical quarks, 6 scalar and 4 Weyl fermionic fields in the adjoint re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23080" y="2746440"/>
            <a:ext cx="216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ear vacu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t very high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very different from that of Q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95880" y="1752480"/>
            <a:ext cx="762120" cy="4191120"/>
          </a:xfrm>
          <a:custGeom>
            <a:avLst/>
            <a:gdLst>
              <a:gd name="textAreaLeft" fmla="*/ 0 w 762120"/>
              <a:gd name="textAreaRight" fmla="*/ 275040 w 76212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1960" y="1017720"/>
            <a:ext cx="24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Calligraphy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4 SYM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String theory and heavy ion colli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0200" y="3657600"/>
            <a:ext cx="719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, I would like to convince you this is likely to 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first chap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long s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5105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16920" y="5029200"/>
            <a:ext cx="768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later chapters, many mor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perimental resul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plained,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edictio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made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8200" y="1828800"/>
            <a:ext cx="774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dS/CFT computation of the shear viscosit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``explain’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perfect flu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ed at RH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 a universal lower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48720" y="990720"/>
            <a:ext cx="1295280" cy="914400"/>
          </a:xfrm>
          <a:prstGeom prst="wedgeRectCallout">
            <a:avLst>
              <a:gd name="adj1" fmla="val -97550"/>
              <a:gd name="adj2" fmla="val 585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n and Kapusta’s tal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4800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symptotic freedo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nfi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symmetric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adly broken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hiral condens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ynamical quarks, 6 scalars and 4 fermions in the adjoint re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2240" y="569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1066680"/>
            <a:ext cx="32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Calligraphy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4 SYM at finite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410080" y="1085760"/>
            <a:ext cx="289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QCD at T ~T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3 T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s agreement meaningful?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105520" y="1628640"/>
            <a:ext cx="388620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conformal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tt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intrinsic properties of sQ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res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taken care of by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oper norm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aybe the agreement is not an accident after all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676520" y="1676520"/>
                <a:ext cx="579096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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λ</m:t>
                        </m:r>
                      </m:e>
                    </m:rad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t xml:space="preserve">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rad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1261440" y="5029200"/>
            <a:ext cx="567324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estimates:  5-15 Ge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f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724120" y="3967200"/>
                <a:ext cx="32130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 Ge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/f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2173320" y="2895480"/>
                <a:ext cx="474192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rPr>
                        <m:lit/>
                        <m:nor/>
                      </m:rPr>
                      <m:t xml:space="preserve"> Me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839880" y="31291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2240" y="5943600"/>
            <a:ext cx="830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veat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S/CFT calculation is in 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fini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fini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pling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for other the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conformal field theories (CFT) with a gravity dual: (large N and strong coupl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6610320" y="220356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447920" y="2286000"/>
                <a:ext cx="243828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FT</m:t>
                            </m:r>
                          </m:sub>
                        </m:sSub>
                      </m:num>
                      <m:den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F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514760" y="29401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4830840" y="2666880"/>
            <a:ext cx="293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F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entral char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050840" y="5218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981080" y="304920"/>
                <a:ext cx="3812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457200" y="37339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ories near conformal:  corrections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4419720"/>
            <a:ext cx="7010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 coupling and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rrections: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51055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-char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potential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470000" y="37339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Buch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162920" y="5257800"/>
            <a:ext cx="1828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in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, Matsuo, Avramis, Sfetsos, Armesto,Edelstein, Mas,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 ……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420600" y="4495680"/>
            <a:ext cx="272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Armesto, Edelstein and 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01760" y="5791320"/>
            <a:ext cx="50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ctions mall when chemical potential is 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rag force for heavy quarks  in </a:t>
            </a:r>
            <a:r>
              <a:rPr b="0" lang="en-US" sz="3200" spc="-1" strike="noStrike">
                <a:solidFill>
                  <a:srgbClr val="0000ff"/>
                </a:solidFill>
                <a:latin typeface="Lucida Calligraphy"/>
              </a:rPr>
              <a:t>N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=4 SY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22000" y="1066680"/>
            <a:ext cx="49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Herzog, Karch, Kovtun, Kozcaz, Yaffe; Gubser, …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82320" y="1447920"/>
            <a:ext cx="7770960" cy="1523880"/>
            <a:chOff x="382320" y="1447920"/>
            <a:chExt cx="7770960" cy="1523880"/>
          </a:xfrm>
        </p:grpSpPr>
        <p:pic>
          <p:nvPicPr>
            <p:cNvPr id="256" name="" descr=""/>
            <p:cNvPicPr/>
            <p:nvPr/>
          </p:nvPicPr>
          <p:blipFill>
            <a:blip r:embed="rId1"/>
            <a:stretch/>
          </p:blipFill>
          <p:spPr>
            <a:xfrm>
              <a:off x="6172200" y="2163960"/>
              <a:ext cx="1981080" cy="57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2"/>
            <a:stretch/>
          </p:blipFill>
          <p:spPr>
            <a:xfrm>
              <a:off x="1447920" y="2057400"/>
              <a:ext cx="40384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382320" y="1447920"/>
              <a:ext cx="726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rag force for a heavy quark moving in the medium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62960" y="3048120"/>
            <a:ext cx="8452440" cy="1295280"/>
            <a:chOff x="462960" y="3048120"/>
            <a:chExt cx="8452440" cy="1295280"/>
          </a:xfrm>
        </p:grpSpPr>
        <p:pic>
          <p:nvPicPr>
            <p:cNvPr id="260" name="" descr=""/>
            <p:cNvPicPr/>
            <p:nvPr/>
          </p:nvPicPr>
          <p:blipFill>
            <a:blip r:embed="rId3"/>
            <a:stretch/>
          </p:blipFill>
          <p:spPr>
            <a:xfrm>
              <a:off x="3772080" y="3519360"/>
              <a:ext cx="194292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6781680" y="3610080"/>
              <a:ext cx="2133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cc00"/>
                  </a:solidFill>
                  <a:latin typeface="Arial"/>
                </a:rPr>
                <a:t>Casalderrey-Solana, Teane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2960" y="3048120"/>
              <a:ext cx="441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luctuation-dissipation theor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3600" y="304812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461280" y="316080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11640" y="3657600"/>
              <a:ext cx="299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iffusion coefficient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524600" y="5410080"/>
            <a:ext cx="4844520" cy="533520"/>
            <a:chOff x="1524600" y="5410080"/>
            <a:chExt cx="4844520" cy="533520"/>
          </a:xfrm>
        </p:grpSpPr>
        <p:sp>
          <p:nvSpPr>
            <p:cNvPr id="267" name=""/>
            <p:cNvSpPr/>
            <p:nvPr/>
          </p:nvSpPr>
          <p:spPr>
            <a:xfrm>
              <a:off x="1524600" y="5450040"/>
              <a:ext cx="44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Note: D can not be used to find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6035760" y="5410080"/>
                  <a:ext cx="33336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q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9" name=""/>
          <p:cNvSpPr/>
          <p:nvPr/>
        </p:nvSpPr>
        <p:spPr>
          <a:xfrm>
            <a:off x="560520" y="4191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83760" y="4343400"/>
            <a:ext cx="8683920" cy="977760"/>
            <a:chOff x="383760" y="4343400"/>
            <a:chExt cx="8683920" cy="977760"/>
          </a:xfrm>
        </p:grpSpPr>
        <p:sp>
          <p:nvSpPr>
            <p:cNvPr id="271" name=""/>
            <p:cNvSpPr/>
            <p:nvPr/>
          </p:nvSpPr>
          <p:spPr>
            <a:xfrm>
              <a:off x="383760" y="4495680"/>
              <a:ext cx="651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t is possible to analyze the energy flow patter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indications of conical flow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054920" y="4343400"/>
              <a:ext cx="2012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cc00"/>
                  </a:solidFill>
                  <a:latin typeface="Arial"/>
                </a:rPr>
                <a:t>Friess,Gub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cc00"/>
                  </a:solidFill>
                  <a:latin typeface="Arial"/>
                </a:rPr>
                <a:t>Michalogiorgakis, Puf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160920" y="6019920"/>
            <a:ext cx="88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uctuation-dissipation theorem assumes the quark is in equilibrium with the mediu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apply to high energy 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1480" y="2514600"/>
            <a:ext cx="78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n+1: Quarkonium suppre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edictio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for LHC or RHIC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059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Quarkonium suppression at high P</a:t>
            </a:r>
            <a:r>
              <a:rPr b="0" lang="en-US" sz="40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41800" y="1298520"/>
            <a:ext cx="812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ques discussed above can also be used to calc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creening leng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between a quark pa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7240" y="2362320"/>
            <a:ext cx="717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atic quar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reat suc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lattice calcu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5160" y="3048120"/>
            <a:ext cx="767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vy quarks produced in heavy ion collisions typic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o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lative to the medium: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ard to do using latt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762120" y="4089240"/>
            <a:ext cx="6324120" cy="1549440"/>
            <a:chOff x="762120" y="4089240"/>
            <a:chExt cx="6324120" cy="1549440"/>
          </a:xfrm>
        </p:grpSpPr>
        <p:pic>
          <p:nvPicPr>
            <p:cNvPr id="280" name="" descr=""/>
            <p:cNvPicPr/>
            <p:nvPr/>
          </p:nvPicPr>
          <p:blipFill>
            <a:blip r:embed="rId1"/>
            <a:stretch/>
          </p:blipFill>
          <p:spPr>
            <a:xfrm>
              <a:off x="1447560" y="4698720"/>
              <a:ext cx="5638680" cy="9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762120" y="4089240"/>
              <a:ext cx="451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dS/CFT: (for conformal theory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336240" y="4038480"/>
            <a:ext cx="8809560" cy="2654280"/>
            <a:chOff x="336240" y="4038480"/>
            <a:chExt cx="8809560" cy="2654280"/>
          </a:xfrm>
        </p:grpSpPr>
        <p:sp>
          <p:nvSpPr>
            <p:cNvPr id="283" name=""/>
            <p:cNvSpPr/>
            <p:nvPr/>
          </p:nvSpPr>
          <p:spPr>
            <a:xfrm>
              <a:off x="336240" y="5867280"/>
              <a:ext cx="8809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eavy quark mesons with larger velocity disassociate at 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wer temperature:  effect may be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significant at RHIC II or LH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162920" y="4038480"/>
              <a:ext cx="1828800" cy="914400"/>
            </a:xfrm>
            <a:prstGeom prst="wedgeRectCallout">
              <a:avLst>
                <a:gd name="adj1" fmla="val 13370"/>
                <a:gd name="adj2" fmla="val 19201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e Urs Wiedemann’s tal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6248520" y="990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HL,Rajagopal,Wiedem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onclusions: a nice honey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S/CFT provides powerful tools to understand dynamics of strong coupled gauge theor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ny m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pters to be written for  the marriage between string theory and physics  of QCD in extreme cond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2411280" y="274680"/>
            <a:ext cx="50562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52720" y="1752480"/>
            <a:ext cx="688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n: AdS/CFT and Jet quench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487692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Parton energy loss in QG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447920" y="4013280"/>
            <a:ext cx="6898680" cy="939600"/>
            <a:chOff x="1447920" y="4013280"/>
            <a:chExt cx="6898680" cy="939600"/>
          </a:xfrm>
        </p:grpSpPr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1447920" y="4013280"/>
                  <a:ext cx="2819160" cy="93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E</m:t>
                      </m:r>
                      <m:r>
                        <m:t xml:space="preserve">≈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den>
                      </m:f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acc>
                        <m:accPr>
                          <m:chr m:val="^"/>
                        </m:accPr>
                        <m:e>
                          <m:r>
                            <m:t xml:space="preserve">q</m:t>
                          </m:r>
                        </m:e>
                      </m:acc>
                      <m:sSup>
                        <m:e>
                          <m:r>
                            <m:t xml:space="preserve">L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63" name=""/>
            <p:cNvSpPr/>
            <p:nvPr/>
          </p:nvSpPr>
          <p:spPr>
            <a:xfrm>
              <a:off x="5489640" y="4260600"/>
              <a:ext cx="285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ae00"/>
                  </a:solidFill>
                  <a:latin typeface="Arial"/>
                </a:rPr>
                <a:t>Baier, Dokshitzer, Mueller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ae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ae00"/>
                  </a:solidFill>
                  <a:latin typeface="Arial"/>
                </a:rPr>
                <a:t>Peigne, Schiff (1996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163520" y="5105520"/>
            <a:ext cx="7295040" cy="533160"/>
            <a:chOff x="1163520" y="5105520"/>
            <a:chExt cx="7295040" cy="533160"/>
          </a:xfrm>
        </p:grpSpPr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1163520" y="5105520"/>
                  <a:ext cx="33336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q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66" name=""/>
            <p:cNvSpPr/>
            <p:nvPr/>
          </p:nvSpPr>
          <p:spPr>
            <a:xfrm>
              <a:off x="1419840" y="5133960"/>
              <a:ext cx="703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reflects the ability of the medium to “quench” jets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2280" y="1447920"/>
            <a:ext cx="8686800" cy="2438280"/>
            <a:chOff x="152280" y="1447920"/>
            <a:chExt cx="8686800" cy="243828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152280" y="1447920"/>
              <a:ext cx="518184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5334120" y="1523880"/>
              <a:ext cx="35049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dominant effect of the medium on a high energy parton is medium-induced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Bremsstrahlung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571760" y="5638680"/>
            <a:ext cx="6957720" cy="1028880"/>
            <a:chOff x="1571760" y="5638680"/>
            <a:chExt cx="6957720" cy="1028880"/>
          </a:xfrm>
        </p:grpSpPr>
        <mc:AlternateContent>
          <mc:Choice xmlns:a14="http://schemas.microsoft.com/office/drawing/2010/main" Requires="a14">
            <p:sp>
              <p:nvSpPr>
                <p:cNvPr id="71" name=""/>
                <p:cNvSpPr txBox="1"/>
                <p:nvPr/>
              </p:nvSpPr>
              <p:spPr>
                <a:xfrm>
                  <a:off x="4276800" y="6058080"/>
                  <a:ext cx="3524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1571760" y="5638680"/>
                  <a:ext cx="1971720" cy="102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q</m:t>
                          </m:r>
                        </m:e>
                      </m:acc>
                      <m:r>
                        <m:t xml:space="preserve">=</m:t>
                      </m:r>
                      <m:f>
                        <m:num>
                          <m:d>
                            <m:dPr>
                              <m:begChr m:val="⟨"/>
                              <m:endChr m:val="⟩"/>
                            </m:dPr>
                            <m:e>
                              <m:sSubSup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d>
                        </m:num>
                        <m:den>
                          <m:r>
                            <m:t xml:space="preserve">L</m:t>
                          </m:r>
                        </m:den>
                      </m:f>
                      <m:r>
                        <m:t xml:space="preserve">≈</m:t>
                      </m:r>
                      <m:r>
                        <m:t xml:space="preserve"></m:t>
                      </m:r>
                      <m:f>
                        <m:num>
                          <m:sSup>
                            <m:e>
                              <m:r>
                                <m:t xml:space="preserve">μ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λ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3" name=""/>
            <p:cNvSpPr/>
            <p:nvPr/>
          </p:nvSpPr>
          <p:spPr>
            <a:xfrm>
              <a:off x="3267000" y="593424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62640" y="6010200"/>
              <a:ext cx="168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 Debye m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21840" y="6010200"/>
              <a:ext cx="190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 mean free path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6391440" y="6010200"/>
                  <a:ext cx="31716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90720" y="1571760"/>
            <a:ext cx="6858000" cy="444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847440" y="609480"/>
            <a:ext cx="731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an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first principle computation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8077320" y="447840"/>
                <a:ext cx="5238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3283200" y="6095880"/>
            <a:ext cx="22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-15 Ge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f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019320" y="6019920"/>
                <a:ext cx="3333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33160" y="2361960"/>
            <a:ext cx="83055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in theoretical techniques for dealing with strongly coupled problems ar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ttice calcul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tice techniques are not well adapted to calculat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ransport coeffici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ynamical proces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ny s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94560" y="914400"/>
            <a:ext cx="663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ew theoretical techniques nee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AdS/CFT correspon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86400" y="392436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cal gravity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28240" y="1752480"/>
            <a:ext cx="3886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Lucida Calligraphy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=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per-Yang-Mills theory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SU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106668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ldacena (1997), Gubser, Klebanov,Polyakov; Witten (199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58672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to bo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ynam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rmodyna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servab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2720" y="4800600"/>
            <a:ext cx="7962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M observables a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finite N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and infinite coup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d using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ass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981080"/>
            <a:ext cx="914400" cy="381240"/>
          </a:xfrm>
          <a:prstGeom prst="leftRightArrow">
            <a:avLst>
              <a:gd name="adj1" fmla="val 50000"/>
              <a:gd name="adj2" fmla="val 477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82920" y="1905120"/>
            <a:ext cx="36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ring theory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28954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70640" y="3657600"/>
            <a:ext cx="29574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 coupling lim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14800" y="2971800"/>
            <a:ext cx="914400" cy="380880"/>
          </a:xfrm>
          <a:prstGeom prst="leftRightArrow">
            <a:avLst>
              <a:gd name="adj1" fmla="val 50000"/>
              <a:gd name="adj2" fmla="val 477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72080" y="2914560"/>
            <a:ext cx="288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 hole in Ad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3886200"/>
            <a:ext cx="914400" cy="380880"/>
          </a:xfrm>
          <a:prstGeom prst="leftRightArrow">
            <a:avLst>
              <a:gd name="adj1" fmla="val 50000"/>
              <a:gd name="adj2" fmla="val 477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n-perturb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finition of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    in strongly coupled Super-Yang-Mills theory using AdS/C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734160" y="2076480"/>
                <a:ext cx="4287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390760" y="3676680"/>
                <a:ext cx="380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3429000" y="83808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56600" y="5410080"/>
            <a:ext cx="664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strategy was used to compute the shear viscos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142640" y="1218960"/>
            <a:ext cx="6553080" cy="99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Lucida Calligraphy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a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Lucida Calligraphy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=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per-Yang-Mills theory  i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Q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71520" y="2898720"/>
            <a:ext cx="63486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at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sQGP of </a:t>
            </a:r>
            <a:r>
              <a:rPr b="0" i="1" lang="en-US" sz="2400" spc="-1" strike="noStrike">
                <a:solidFill>
                  <a:srgbClr val="ff0000"/>
                </a:solidFill>
                <a:latin typeface="Lucida Calligraphy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=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YM to understand sQGP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H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ay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far-fetch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88840" y="4800600"/>
            <a:ext cx="343296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mulate data poi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02:30:40Z</dcterms:created>
  <dc:creator>Pepe</dc:creator>
  <dc:description/>
  <dc:language>en-US</dc:language>
  <cp:lastModifiedBy>Pepe</cp:lastModifiedBy>
  <dcterms:modified xsi:type="dcterms:W3CDTF">2006-11-16T00:58:50Z</dcterms:modified>
  <cp:revision>107</cp:revision>
  <dc:subject/>
  <dc:title>String theory, black holes and relativistic heavy ion collisions</dc:title>
</cp:coreProperties>
</file>