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48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9.jpeg" ContentType="image/jpeg"/>
  <Override PartName="/ppt/media/image36.png" ContentType="image/png"/>
  <Override PartName="/ppt/media/image61.pct" ContentType="image/x-pict"/>
  <Override PartName="/ppt/media/image60.pct" ContentType="image/x-pict"/>
  <Override PartName="/ppt/media/image22.png" ContentType="image/png"/>
  <Override PartName="/ppt/media/image58.png" ContentType="image/png"/>
  <Override PartName="/ppt/media/image21.png" ContentType="image/png"/>
  <Override PartName="/ppt/media/image6.png" ContentType="image/png"/>
  <Override PartName="/ppt/media/image18.png" ContentType="image/png"/>
  <Override PartName="/ppt/media/image20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62.png" ContentType="image/png"/>
  <Override PartName="/ppt/media/image25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0.png" ContentType="image/png"/>
  <Override PartName="/ppt/media/image39.png" ContentType="image/png"/>
  <Override PartName="/ppt/media/image40.png" ContentType="image/png"/>
  <Override PartName="/ppt/media/image55.pct" ContentType="image/x-pict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59.pct" ContentType="image/x-pict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51.png" ContentType="image/png"/>
  <Override PartName="/ppt/media/image1.png" ContentType="image/png"/>
  <Override PartName="/ppt/media/image13.png" ContentType="image/png"/>
  <Override PartName="/ppt/media/image52.jpeg" ContentType="image/jpeg"/>
  <Override PartName="/ppt/media/image5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F421-AAAE-4733-A046-72CCDBFF0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into account errors of measurem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ly point-to-point errors, d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imization, compute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data up and down by one RMS of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lated errors and do the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up contributions of step 1 an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ing into account errors of measurement (for a certain theory paramet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y points within 4 RMS of correlated errors, find most probabl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probability for 10000 randomly picked set of correlated and uncorrelated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how many of these are worse than point from 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022-A0A3-4504-9352-21E1CECC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8D2-4930-449D-9671-364E9A44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DB5-4EA6-40C3-BCBA-0240FECF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901-81E6-4D06-A090-F51DAA83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7609-C85F-46E8-A675-71D07BCD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3AE7-0D2A-4F16-9B8E-849AC4D5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D660-BAAA-44B5-A97E-CC31EC75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78BB-6C8E-4A53-890D-09BD262A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9A00-5856-4966-822D-9626B573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51920"/>
            <a:ext cx="6172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3D9D-8AA3-4424-AF51-800E0712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0F74-0902-4C09-A6F9-C34E5FAF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37E-41B3-4113-9E4D-B720C541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58FC-F27E-440B-ADFA-C61B22F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3612-345D-4CE8-A040-4D32249B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7150-DDDF-44F4-80B1-A48C25E6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9BF8-291C-40C5-ABD4-E22749E5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AACC-8F77-4A5C-BDF9-BC7B1012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0A5-84F2-4BD8-940C-A58D9287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D0D-62C4-4AC0-9FF0-21F2D9ED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338-2356-4C94-B0C8-18FFE194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99840" y="151920"/>
            <a:ext cx="6172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0B1-BF2D-4E9B-AC4C-B1E1FEB9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CE4-1E4E-454C-9F71-E33468F7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79F-49B9-4A3E-999B-01BF3B84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5CF-07B1-42A1-A97D-88416215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do Sahlmü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rk Matter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22BA-DDFA-4428-A920-DA2973D30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0a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119320" y="995400"/>
            <a:ext cx="7024680" cy="1476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1095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808760" y="228600"/>
            <a:ext cx="1258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7848720" y="309600"/>
            <a:ext cx="1164960" cy="3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do Sahl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rk Matter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E1D5-383F-405A-9A52-1E22BDD79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4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4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0.pct"/><Relationship Id="rId5" Type="http://schemas.openxmlformats.org/officeDocument/2006/relationships/image" Target="../media/image61.pct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ng energy loss: PHENIX results on high-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ron spec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4419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do Sahlmüller, University of Mün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HENIX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0a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808760" y="228600"/>
            <a:ext cx="1258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48720" y="309600"/>
            <a:ext cx="11649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7519" r="6120" b="-745"/>
          <a:stretch/>
        </p:blipFill>
        <p:spPr>
          <a:xfrm>
            <a:off x="1143000" y="1600200"/>
            <a:ext cx="6629400" cy="44672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200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u+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680" y="5943600"/>
            <a:ext cx="67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Suppression by a factor of 5 in central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248520" y="4114800"/>
            <a:ext cx="106668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2A4-F54A-4BC4-AE3B-523539815C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562720" cy="3718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200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u+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measured p+p referen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4560" y="5772240"/>
            <a:ext cx="65919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=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oefler Text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, both show sup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=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maller than 1 at very high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2440" y="243828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-10% central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106704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249-7AB4-44D2-9699-505473E110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99840" y="3276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2.4 Ge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78A-011F-4265-A34C-E7667877B4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+p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+p parameterization at 62.4 GeV: Fit to existing (ISR) data at similar energies (D.d'Enterria. J.Phys.G31, S491 (2005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1938240"/>
            <a:ext cx="5334120" cy="46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3D5-20B2-4114-A067-86DC03D62E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300720" cy="3992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+p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data sets inconsistent =&gt; larg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699160"/>
            <a:ext cx="56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mportant RHIC measurement in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still on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C4D-8033-4DCA-96EB-1CBC4D2DAD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+Au at 62.4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+A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ression in centr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: influence of error in p+p refer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 curve: Vitev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cl-th/04040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dy = 650-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962520" y="2271600"/>
            <a:ext cx="5181480" cy="3900600"/>
            <a:chOff x="3962520" y="2271600"/>
            <a:chExt cx="5181480" cy="39006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rcRect l="0" t="0" r="9862" b="0"/>
            <a:stretch/>
          </p:blipFill>
          <p:spPr>
            <a:xfrm>
              <a:off x="3962520" y="2271600"/>
              <a:ext cx="5181480" cy="39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172200" y="5029200"/>
              <a:ext cx="1200240" cy="46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A5D-1645-4CBC-BD79-B8ACBEA516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a in Cu+Cu at 62.4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1921" t="2856" r="2080" b="1430"/>
          <a:stretch/>
        </p:blipFill>
        <p:spPr>
          <a:xfrm>
            <a:off x="4876920" y="1143000"/>
            <a:ext cx="3809880" cy="5105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2122" t="2856" r="1921" b="1430"/>
          <a:stretch/>
        </p:blipFill>
        <p:spPr>
          <a:xfrm>
            <a:off x="304920" y="1143000"/>
            <a:ext cx="3809880" cy="5105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895120" y="4800600"/>
            <a:ext cx="4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75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295280" y="5105520"/>
            <a:ext cx="1067040" cy="393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867280" y="5092560"/>
            <a:ext cx="1067040" cy="393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11920" y="6114960"/>
            <a:ext cx="31770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&gt; See poster by T. Sakaguchi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62D-9BC1-4168-A550-7C5BDD08D4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48320" y="1771560"/>
            <a:ext cx="4255920" cy="4086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u+Cu at 62.4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: Influence of error in p+p refer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 dependen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ment in peripheral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er in centr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8320" y="1770120"/>
            <a:ext cx="4267080" cy="4097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1770120"/>
            <a:ext cx="4267080" cy="4097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648320" y="1770120"/>
            <a:ext cx="4267080" cy="4095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648320" y="1770120"/>
            <a:ext cx="4267080" cy="4095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648320" y="1770120"/>
            <a:ext cx="4267080" cy="4097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648320" y="1770120"/>
            <a:ext cx="4267080" cy="4097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7238880" y="2590920"/>
            <a:ext cx="106704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BEB-77D9-4C4F-8354-39B1EE6C4C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62.4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grated at hig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: Large normalization uncertainty from p+p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er towards higher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heoretical model as for 200 GeV data consistent withi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1859" b="1493"/>
          <a:stretch/>
        </p:blipFill>
        <p:spPr>
          <a:xfrm>
            <a:off x="4724280" y="1371600"/>
            <a:ext cx="4114800" cy="5029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943600" y="5257800"/>
            <a:ext cx="1066680" cy="393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rcRect l="0" t="8975" r="6399" b="0"/>
          <a:stretch/>
        </p:blipFill>
        <p:spPr>
          <a:xfrm>
            <a:off x="4724280" y="1828800"/>
            <a:ext cx="3944880" cy="4624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060800" y="1523880"/>
            <a:ext cx="5083200" cy="48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FC1-04B0-4254-A7C4-54EE42AE0B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3276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2.4 Ge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02B-E6FA-4BA1-A37E-F9BA3C89A7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Motiv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igh-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nergy: hard scattering cross section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hig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icle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yields an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ributions can be predicted from p+p measurements + pQCD + cold nuclear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ations can be attributed to the medium formed in A+A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icles (leading particles of jets) a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measured in large BGs (d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7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fication with nuclear modification fa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553080" y="3962520"/>
            <a:ext cx="2457000" cy="2514600"/>
            <a:chOff x="6553080" y="3962520"/>
            <a:chExt cx="2457000" cy="25146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553080" y="3962520"/>
              <a:ext cx="21229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265600" y="3974040"/>
              <a:ext cx="7444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  <a:ea typeface="ＭＳ ゴシック"/>
                </a:rPr>
                <a:t>A+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862680" y="1295280"/>
            <a:ext cx="1868760" cy="2514600"/>
            <a:chOff x="6862680" y="1295280"/>
            <a:chExt cx="1868760" cy="2514600"/>
          </a:xfrm>
        </p:grpSpPr>
        <p:sp>
          <p:nvSpPr>
            <p:cNvPr id="106" name=""/>
            <p:cNvSpPr/>
            <p:nvPr/>
          </p:nvSpPr>
          <p:spPr>
            <a:xfrm>
              <a:off x="6862680" y="2369160"/>
              <a:ext cx="245520" cy="4820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095600" y="1295280"/>
              <a:ext cx="11325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228520" y="2115720"/>
              <a:ext cx="245520" cy="4820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2080" y="301284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  <a:ea typeface="ＭＳ ゴシック"/>
                </a:rPr>
                <a:t>p+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981080" y="5562720"/>
            <a:ext cx="3194280" cy="64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8B8-7711-4177-821D-2FAADCDC4D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+p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+p parameterization at 22.4 GeV: Fit to existing data at similar energies (D.d'Enterria. J.Phys.G31, S491 (200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800600" cy="45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B78-8AD9-4946-B3E3-2130577995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0" t="6449" r="10144" b="0"/>
          <a:stretch/>
        </p:blipFill>
        <p:spPr>
          <a:xfrm>
            <a:off x="4114800" y="1143000"/>
            <a:ext cx="5029200" cy="3529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267080" cy="3049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22.4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ards SPS energies: Cu+Cu at 22.4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5181480"/>
            <a:ext cx="449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tle centrality depend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96080" y="3581280"/>
            <a:ext cx="1067040" cy="393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267080" cy="3049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0" y="3427560"/>
            <a:ext cx="4267080" cy="3049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0" y="3427560"/>
            <a:ext cx="4267080" cy="3049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990720" y="4495680"/>
            <a:ext cx="106668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56F-9B03-4B53-8167-09D994E3B8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6324480" cy="42894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S and R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ehavior for similar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3 at WA98, 67.8 at PHEN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1911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ttnig parameterization used for WA98 data (S. Blattnig et. al.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.Rev. D62 (2000) 094030 / D. D’Enterria, Phys. Lett. B 596 (2004) 32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79E-831F-4C1A-9B64-807A27BD73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267080" y="1566720"/>
            <a:ext cx="4876920" cy="46818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Different E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u+Cu at 200, 62.4, and 22.4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the same collision species over a broad energy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ression gets larger with higher ener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105520" y="3187800"/>
            <a:ext cx="106668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C56-762F-415E-9F8C-74DE6C682E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3276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ticle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E7F-5715-4865-B8E1-C525B3F558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124080" y="2335320"/>
            <a:ext cx="6019920" cy="40831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 in Au+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ifferent centralities in comparison with PYTHIA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2743200"/>
            <a:ext cx="304812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YTHIA works very well in describing the ratio in heavy-ion coll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sible conclusion (for high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Suppression at partonic level, fragmentation outside med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06704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8AD-C28C-44B4-B491-931D8FA1FB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3767" t="6013" r="9462" b="1837"/>
          <a:stretch/>
        </p:blipFill>
        <p:spPr>
          <a:xfrm>
            <a:off x="4809960" y="1143000"/>
            <a:ext cx="4334040" cy="441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04920" y="2773440"/>
            <a:ext cx="4647960" cy="37195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 in p+p and Cu+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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0.5 at hig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ENI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surement at 62.4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010280" y="2120760"/>
            <a:ext cx="1067040" cy="393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364480" y="53341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72400" y="144792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+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24800" y="358128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-ex/0611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C8A-8D07-4755-93E2-24692B6F7A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”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HENIX data consistent with worl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shows no obvious energy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4952880" cy="4495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781680" cy="4451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137664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89A-8567-4FDE-B10D-6CED063ED3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99840" y="33523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ta vs. Theo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92B-7B41-4518-A6F9-DA738ABE93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to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probable is a certain parameter in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6935760" cy="339732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0" y="1600200"/>
            <a:ext cx="6934320" cy="3396960"/>
            <a:chOff x="0" y="1600200"/>
            <a:chExt cx="6934320" cy="3396960"/>
          </a:xfrm>
        </p:grpSpPr>
        <p:grpSp>
          <p:nvGrpSpPr>
            <p:cNvPr id="253" name=""/>
            <p:cNvGrpSpPr/>
            <p:nvPr/>
          </p:nvGrpSpPr>
          <p:grpSpPr>
            <a:xfrm>
              <a:off x="0" y="1600200"/>
              <a:ext cx="6934320" cy="3396960"/>
              <a:chOff x="0" y="1600200"/>
              <a:chExt cx="6934320" cy="3396960"/>
            </a:xfrm>
          </p:grpSpPr>
          <p:pic>
            <p:nvPicPr>
              <p:cNvPr id="2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600200"/>
                <a:ext cx="6934320" cy="33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4648320" y="175248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1522080" y="1904760"/>
              <a:ext cx="1459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ory: Loizid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p-ph/0608133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09480" y="5465880"/>
                <a:ext cx="297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≤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G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fm 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ability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648320" y="37339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8320" y="23623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3886200"/>
            <a:ext cx="4419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ing into account errors of measurement (for a certain theory paramet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y points within 4 RMS of correlated errors, find most probabl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probability for large number of randomly picked sets of correlated and uncorrelated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how many of these are worse than point from 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648320" y="1828800"/>
            <a:ext cx="4495320" cy="4647960"/>
            <a:chOff x="4648320" y="1828800"/>
            <a:chExt cx="4495320" cy="4647960"/>
          </a:xfrm>
        </p:grpSpPr>
        <p:pic>
          <p:nvPicPr>
            <p:cNvPr id="262" name="" descr=""/>
            <p:cNvPicPr/>
            <p:nvPr/>
          </p:nvPicPr>
          <p:blipFill>
            <a:blip r:embed="rId3"/>
            <a:stretch/>
          </p:blipFill>
          <p:spPr>
            <a:xfrm>
              <a:off x="4648320" y="1828800"/>
              <a:ext cx="449532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020080" y="4518720"/>
              <a:ext cx="0" cy="142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32440" y="4518720"/>
              <a:ext cx="0" cy="142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2CC-B6FD-4D5F-92BA-A7E81507BC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2759040"/>
            <a:ext cx="3581280" cy="3540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62720" y="2759040"/>
            <a:ext cx="3581280" cy="3540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343400" cy="2692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4343400" cy="2692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already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43040" y="1218960"/>
            <a:ext cx="47242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size dependence at 200 Ge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ression up to high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sistent with dN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dy = 1200 (Au+Au) and dN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dy = 370 (Cu+Cu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5486400"/>
            <a:ext cx="5715000" cy="9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estions: What happens at lower energ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nection towards SPS energ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794040"/>
            <a:ext cx="5562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suppression for simila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with pure density and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depe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72428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: taking into account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6ED-B804-4954-8980-46133407DC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to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724280" cy="3767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114800" cy="3981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095880" y="42670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46920" y="428004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09480" y="5667480"/>
                <a:ext cx="28195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00 G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fm 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ability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12360" y="129528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compila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86760" y="2133720"/>
            <a:ext cx="203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I. Vitev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.Lett.B639:38-45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8E2-45BB-4565-B40A-26888C398E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to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2360" y="12952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other compila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629400" cy="324828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4495680" y="2286000"/>
            <a:ext cx="4343040" cy="4038120"/>
            <a:chOff x="4495680" y="2286000"/>
            <a:chExt cx="4343040" cy="40381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495680" y="2286000"/>
              <a:ext cx="4343040" cy="40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563800" y="4462920"/>
              <a:ext cx="0" cy="133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61480" y="4445640"/>
              <a:ext cx="0" cy="133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066680" y="5105520"/>
                <a:ext cx="26910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600  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ability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449000" y="236232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William Horowit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3D3-D70E-454D-BEF4-9D75D478FB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+Au at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surement up to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5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suppression pattern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at 62.4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hancement in peripher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smaller in centr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at 22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ignificant centrality dependence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with SPS results at 17.3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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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milar for different collision systems and en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in Cu+Cu and Au+Au consistent with partonic energy loss in the medium, fragmentation in the vac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108-2B40-4E60-BE29-1D55C4B526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: Back to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of investigating energy loss with hig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 production; dependence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1F7-F5E0-43F0-8446-81E6B0135B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: Back to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of investigating energy loss with hig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 production; dependence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AF8-0395-4D2F-8963-81801F706E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648320" y="3124080"/>
            <a:ext cx="4190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320040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13 Countries;  62 Institutions;  550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rticipants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5120" y="6477120"/>
            <a:ext cx="16880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as of March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616280" y="3660840"/>
          <a:ext cx="4527720" cy="289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6280" y="3660840"/>
                    <a:ext cx="4527720" cy="28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0" y="152280"/>
          <a:ext cx="4645080" cy="6616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280"/>
                    <a:ext cx="464508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191120" y="384120"/>
            <a:ext cx="4876560" cy="2816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 flipV="1">
            <a:off x="4648320" y="3581280"/>
            <a:ext cx="0" cy="3200400"/>
          </a:xfrm>
          <a:prstGeom prst="line">
            <a:avLst/>
          </a:prstGeom>
          <a:ln w="9360">
            <a:solidFill>
              <a:srgbClr val="cc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6"/>
          <a:stretch/>
        </p:blipFill>
        <p:spPr>
          <a:xfrm>
            <a:off x="4495680" y="0"/>
            <a:ext cx="152424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alks and 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2.5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V. S. Pantuev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PHENIX measurements of reaction plane dependence of high-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photons and pions in Au+Au colli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.1.2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Yu. Riabov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Measurement of leptonic and hadronic decays of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mesons at RHIC by PHENIX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.2.2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M. Konn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High-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Identified Hadron Production in Au+Au and Cu+Cu Collisions at RHIC-PHEN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.3.1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T. Isob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ystematic Study of High-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rect Photon Production with the PHENIX Experiment at RH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14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M. L. Purschk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Measurement of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stributions in 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=200 GeV Au-Au collisions at RHIC-PHEN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18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V. Ryabov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Measurements of the multi-hadron decays of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mesons in heavy ion collisions at 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 200 GeV in the PHENIX experiment at RH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38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M. Shimomur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Measurement of Azimuthal Anisotropy for High-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Charged Hadron at RHIC-PHEN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50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T. Sakaguchi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System size and energy dependence of high-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hadron production measured with the PHENIX experiment at RH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51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D. Wint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High-pT  π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production with respect to the reaction plane in 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= 200 GeV Au+Au collisions at PHEN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3B5-DC52-44A1-9DD4-24182553F5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ENIX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re measured in EM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ectors PbGl, 6 sectors PbSc in 2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&lt;0.35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ularity fine enough to measu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up to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25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114800" y="1573200"/>
            <a:ext cx="5029200" cy="4218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553080" y="3809880"/>
            <a:ext cx="213372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553080" y="3580920"/>
            <a:ext cx="213372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24560" y="3657600"/>
            <a:ext cx="8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333399"/>
                </a:solidFill>
                <a:latin typeface="Hoefler Text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333399"/>
                </a:solidFill>
                <a:latin typeface="Hoefler Text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28F-D235-455B-9B48-C5A8399760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ng Heavy I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: status of investigating energy loss with hig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 production; dependence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4572000"/>
            <a:ext cx="6019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Next step: energy 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B442-9109-4BB3-B285-2ECF14E511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3276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0 Ge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ED0-B146-461F-BEEF-2D62D6B4EC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587520" y="1523880"/>
            <a:ext cx="3751200" cy="4649760"/>
            <a:chOff x="587520" y="1523880"/>
            <a:chExt cx="3751200" cy="464976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587520" y="1523880"/>
              <a:ext cx="37512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311280" y="595800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2"/>
          <a:srcRect l="0" t="7144" r="8331" b="2854"/>
          <a:stretch/>
        </p:blipFill>
        <p:spPr>
          <a:xfrm>
            <a:off x="5410080" y="1676520"/>
            <a:ext cx="3246480" cy="46479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+p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at 200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133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98280" y="205740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efler Text"/>
              </a:rPr>
              <a:t>nucl-ex/06100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120" y="3581280"/>
            <a:ext cx="4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97520" y="3505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95880" y="3886200"/>
            <a:ext cx="1067040" cy="393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49960" y="6127920"/>
            <a:ext cx="3224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&gt; See poster by A. Bazilevsk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4DD-2322-40BD-942F-682183A7D9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5257800" y="1320840"/>
            <a:ext cx="3887280" cy="4699080"/>
            <a:chOff x="5257800" y="1320840"/>
            <a:chExt cx="3887280" cy="46990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0" t="6089" r="0" b="0"/>
            <a:stretch/>
          </p:blipFill>
          <p:spPr>
            <a:xfrm>
              <a:off x="5257800" y="1320840"/>
              <a:ext cx="3836880" cy="469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644600" y="3352680"/>
              <a:ext cx="15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-ex/06100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tate Ef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4953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HENIX paper on centrality dependence o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+Au at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+Au as collision system to look for initial stat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4560" y="601992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no strong initial stat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24480" y="4572000"/>
            <a:ext cx="1067040" cy="393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5038560" cy="2600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0" y="3809880"/>
            <a:ext cx="503856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5038560" cy="2581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5029200" cy="262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51760" y="403848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-ex/06100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86D-69F8-421C-8FB6-E76E14830E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+Au at 200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RHIC ru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1066680" cy="393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80320" y="6093000"/>
            <a:ext cx="33019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&gt; See poster by M.L. Purschk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7F9-7C4A-47D8-8493-C87FC0F3F0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09:01:43Z</dcterms:created>
  <dc:creator>Baldo Sahlmueller</dc:creator>
  <dc:description/>
  <dc:language>en-US</dc:language>
  <cp:lastModifiedBy>Baldo Sahlmueller</cp:lastModifiedBy>
  <dcterms:modified xsi:type="dcterms:W3CDTF">2006-11-18T14:58:59Z</dcterms:modified>
  <cp:revision>183</cp:revision>
  <dc:subject/>
  <dc:title>Diagnosing energy loss: PHENIX results on high-pT hadron spectra</dc:title>
</cp:coreProperties>
</file>