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9.jpeg" ContentType="image/jpeg"/>
  <Override PartName="/ppt/media/image36.png" ContentType="image/png"/>
  <Override PartName="/ppt/media/image61.pct" ContentType="image/x-pict"/>
  <Override PartName="/ppt/media/image60.pct" ContentType="image/x-pict"/>
  <Override PartName="/ppt/media/image22.png" ContentType="image/png"/>
  <Override PartName="/ppt/media/image58.png" ContentType="image/png"/>
  <Override PartName="/ppt/media/image21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62.png" ContentType="image/png"/>
  <Override PartName="/ppt/media/image2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39.png" ContentType="image/png"/>
  <Override PartName="/ppt/media/image40.png" ContentType="image/png"/>
  <Override PartName="/ppt/media/image55.pct" ContentType="image/x-pict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59.pct" ContentType="image/x-pict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52.jpeg" ContentType="image/jpeg"/>
  <Override PartName="/ppt/media/image5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90A-7E32-4973-889A-34B7C0F7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into account errors of measure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point-to-point errors, 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imization, compute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data up and down by one RMS o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ed errors and do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up contributions of step 1 an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into account errors of measurement (for a certain theory parame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points within 4 RMS of correlated errors, find most probab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probability for 10000 randomly picked set of correlated and uncorrelate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ow many of these are worse than point from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0FC-1202-493B-A32A-8A972ABF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653-9D0D-45DC-9E3E-C19EE392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29E-BCA0-481C-80C5-91A8B611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51-7AE3-4806-849F-0F6AC10F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9CD8-3A94-4204-A76D-3501F346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A57-8693-4DF7-B0F3-070FCF74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698-C5FE-4BE1-935D-135B43B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11C9-04D4-41E6-8507-6F516B35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EA97-2DB5-4C88-8621-808E7A44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7BC1-B1A3-493B-A719-C4E0CF4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AEA0-84AC-4325-816C-2D8C1280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3D9-D036-485E-A290-A859287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8D24-3817-4A07-8100-1B51F83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E68-8BE4-4834-9762-2FBFE3B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17C-823C-42F2-80A2-DA03AE12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E339-9D3A-437F-B3C3-C5EEAF3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7D9-073B-4BF8-B88F-2170BAB3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78C-00FB-4072-8CCE-D18BA346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FFD-08C6-485C-A79D-2FFD9CF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16D-7F30-4917-A41C-D2BBC34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C23-01B0-4069-AF2A-4060B99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B2F-D234-47A0-BAA1-428968A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B75-1C8D-455D-BFC1-C27FF12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607-93FB-4FFF-A117-E670840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do Sahl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rk Matt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C1D-8DDA-4BF3-A2D9-28E2235B5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0a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19320" y="995400"/>
            <a:ext cx="7024680" cy="147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1095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808760" y="22860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848720" y="309600"/>
            <a:ext cx="116496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do Sahl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rk Matt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A77-C436-4C06-88DF-958E8F8C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4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0.pct"/><Relationship Id="rId5" Type="http://schemas.openxmlformats.org/officeDocument/2006/relationships/image" Target="../media/image61.pct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ng energy loss: PHENIX results on high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ron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do Sahlmüller, University of Mün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0a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808760" y="22860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48720" y="309600"/>
            <a:ext cx="11649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7519" r="6120" b="-745"/>
          <a:stretch/>
        </p:blipFill>
        <p:spPr>
          <a:xfrm>
            <a:off x="1143000" y="1600200"/>
            <a:ext cx="6629400" cy="4467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680" y="5943600"/>
            <a:ext cx="67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Suppression by a factor of 5 in central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411480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939-9589-4CB2-A548-D659CBE9C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562720" cy="3718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measured p+p refere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4560" y="5772240"/>
            <a:ext cx="65919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oefler Tex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, both show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Hoefl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maller than 1 at very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2440" y="243828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-10% central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BCA-CFFC-472E-A0DD-471CFD805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2.4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E89-4F78-45E1-9EDF-366E0AF23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+p parameterization at 62.4 GeV: Fit to existing (ISR) data at similar energies (D.d'Enterria. J.Phys.G31, S491 (2005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938240"/>
            <a:ext cx="5334120" cy="46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150-18E5-4BC1-AA33-8EFD63568A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300720" cy="3992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ata sets inconsistent =&gt; larg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699160"/>
            <a:ext cx="56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mportant RHIC measurement i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still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943-F614-4222-B2D3-1770C575BF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+A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+A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ion in centr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: influence of error in p+p re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curve: Vite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cl-th/0404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dy = 650-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62520" y="2271600"/>
            <a:ext cx="5181480" cy="3900600"/>
            <a:chOff x="3962520" y="2271600"/>
            <a:chExt cx="5181480" cy="39006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rcRect l="0" t="0" r="9862" b="0"/>
            <a:stretch/>
          </p:blipFill>
          <p:spPr>
            <a:xfrm>
              <a:off x="3962520" y="2271600"/>
              <a:ext cx="5181480" cy="39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172200" y="5029200"/>
              <a:ext cx="1200240" cy="4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567-5DBC-4E4A-A5C5-10610EA67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a in Cu+C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921" t="2856" r="2080" b="1430"/>
          <a:stretch/>
        </p:blipFill>
        <p:spPr>
          <a:xfrm>
            <a:off x="4876920" y="1143000"/>
            <a:ext cx="3809880" cy="5105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2122" t="2856" r="1921" b="1430"/>
          <a:stretch/>
        </p:blipFill>
        <p:spPr>
          <a:xfrm>
            <a:off x="304920" y="1143000"/>
            <a:ext cx="3809880" cy="510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95120" y="4800600"/>
            <a:ext cx="4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75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95280" y="5105520"/>
            <a:ext cx="1067040" cy="393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867280" y="509256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11920" y="6114960"/>
            <a:ext cx="3177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T. Sakaguchi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FCC-7E02-4A42-90A6-F015B632F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8320" y="1771560"/>
            <a:ext cx="4255920" cy="4086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u+Cu 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: Influence of error in p+p re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depen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in periphera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er in centr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648320" y="1770120"/>
            <a:ext cx="4267080" cy="409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648320" y="1770120"/>
            <a:ext cx="4267080" cy="4095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648320" y="1770120"/>
            <a:ext cx="4267080" cy="40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238880" y="2590920"/>
            <a:ext cx="10670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876-454B-4491-9782-4C669F070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6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rated at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: Large normalization uncertainty from p+p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er towards higher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eoretical model as for 200 GeV data consistent withi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1859" b="1493"/>
          <a:stretch/>
        </p:blipFill>
        <p:spPr>
          <a:xfrm>
            <a:off x="4724280" y="13716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1066680" cy="393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8975" r="6399" b="0"/>
          <a:stretch/>
        </p:blipFill>
        <p:spPr>
          <a:xfrm>
            <a:off x="4724280" y="1828800"/>
            <a:ext cx="3944880" cy="4624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060800" y="1523880"/>
            <a:ext cx="5083200" cy="48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F46-9FA1-4C95-8043-60E4BDAB6B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2.4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A1D-61EF-4070-9990-444AA7AE40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Motiv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igh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nergy: hard scattering cross section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le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yields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s can be predicted from p+p measurements + pQCD + cold nuclear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ations can be attributed to the medium formed in A+A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les (leading particles of jets)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measured in large BGs (d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7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cation with nuclear modification fa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53080" y="3962520"/>
            <a:ext cx="2457000" cy="2514600"/>
            <a:chOff x="6553080" y="3962520"/>
            <a:chExt cx="2457000" cy="2514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553080" y="3962520"/>
              <a:ext cx="21229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65600" y="3974040"/>
              <a:ext cx="744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  <a:ea typeface="ＭＳ ゴシック"/>
                </a:rPr>
                <a:t>A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62680" y="1295280"/>
            <a:ext cx="1868760" cy="2514600"/>
            <a:chOff x="6862680" y="1295280"/>
            <a:chExt cx="1868760" cy="2514600"/>
          </a:xfrm>
        </p:grpSpPr>
        <p:sp>
          <p:nvSpPr>
            <p:cNvPr id="106" name=""/>
            <p:cNvSpPr/>
            <p:nvPr/>
          </p:nvSpPr>
          <p:spPr>
            <a:xfrm>
              <a:off x="6862680" y="2369160"/>
              <a:ext cx="245520" cy="482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095600" y="1295280"/>
              <a:ext cx="11325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228520" y="2115720"/>
              <a:ext cx="245520" cy="482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2080" y="301284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  <a:ea typeface="ＭＳ ゴシック"/>
                </a:rPr>
                <a:t>p+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81080" y="5562720"/>
            <a:ext cx="3194280" cy="64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E60-1C52-4388-B532-906F4F738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+p parameterization at 22.4 GeV: Fit to existing data at similar energies (D.d'Enterria. J.Phys.G31, S491 (200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00600" cy="45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FEE-5D77-4A24-98E5-B051BCF054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4114800" y="1143000"/>
            <a:ext cx="5029200" cy="3529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22.4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SPS energies: Cu+Cu at 22.4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18148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centrality depend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96080" y="3581280"/>
            <a:ext cx="1067040" cy="393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F54-B291-4412-BC9E-042324BD42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324480" cy="4289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S and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ehavior for similar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3 at WA98, 67.8 at PHEN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1911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ttnig parameterization used for WA98 data (S. Blattnig et. al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.Rev. D62 (2000) 094030 / D. D’Enterria, Phys. Lett. B 596 (2004) 32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210-C4BE-44CE-86C4-9E4D23CED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267080" y="1566720"/>
            <a:ext cx="4876920" cy="4681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Different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u+Cu at 200, 62.4, and 22.4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the same collision species over a broad energy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 gets larger with higher en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05520" y="318780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1CB-6FF2-4C41-B441-89DDFB44EC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ticl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5CD-02B6-4AD4-A6A8-84026430A7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124080" y="2335320"/>
            <a:ext cx="6019920" cy="4083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in Au+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ifferent centralities in comparison with PYTHIA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743200"/>
            <a:ext cx="304812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THIA works very well in describing the ratio in heavy-ion coll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conclusion (for hig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Suppression at partonic level, fragmentation outside me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0670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FA7-AA89-4746-8441-C94EF04140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3767" t="6013" r="9462" b="1837"/>
          <a:stretch/>
        </p:blipFill>
        <p:spPr>
          <a:xfrm>
            <a:off x="4809960" y="1143000"/>
            <a:ext cx="4334040" cy="441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04920" y="2773440"/>
            <a:ext cx="4647960" cy="3719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in p+p and Cu+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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0.5 at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ENI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 at 62.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10280" y="212076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364480" y="5334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2400" y="144792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24800" y="358128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611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9FD-2541-4D0D-97D3-7845C800F2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”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HENIX data consistent with worl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shows no obvious energy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4952880" cy="4495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81680" cy="4451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37664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7ED-C5E1-4FE7-B056-F15733E1EA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3523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ta vs. Theo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F78-2EB9-44CB-B118-48D88D7A74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probable is a certain parameter in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935760" cy="33973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0" y="1600200"/>
            <a:ext cx="6934320" cy="3396960"/>
            <a:chOff x="0" y="1600200"/>
            <a:chExt cx="6934320" cy="3396960"/>
          </a:xfrm>
        </p:grpSpPr>
        <p:grpSp>
          <p:nvGrpSpPr>
            <p:cNvPr id="253" name=""/>
            <p:cNvGrpSpPr/>
            <p:nvPr/>
          </p:nvGrpSpPr>
          <p:grpSpPr>
            <a:xfrm>
              <a:off x="0" y="1600200"/>
              <a:ext cx="6934320" cy="3396960"/>
              <a:chOff x="0" y="1600200"/>
              <a:chExt cx="6934320" cy="33969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600200"/>
                <a:ext cx="6934320" cy="33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4648320" y="175248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522080" y="1904760"/>
              <a:ext cx="1459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ory: Loizid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p-ph/0608133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09480" y="5465880"/>
                <a:ext cx="297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≤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fm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48320" y="37339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23623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3886200"/>
            <a:ext cx="4419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into account errors of measurement (for a certain theory parame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points within 4 RMS of correlated errors, find most probab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probability for large number of randomly picked sets of correlated and uncorrelate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ow many of these are worse than point from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48320" y="1828800"/>
            <a:ext cx="4495320" cy="4647960"/>
            <a:chOff x="4648320" y="1828800"/>
            <a:chExt cx="4495320" cy="464796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4648320" y="1828800"/>
              <a:ext cx="4495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020080" y="4518720"/>
              <a:ext cx="0" cy="14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32440" y="4518720"/>
              <a:ext cx="0" cy="14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714-1CD8-42B9-9599-DFDACDB958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2759040"/>
            <a:ext cx="3581280" cy="354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2759040"/>
            <a:ext cx="3581280" cy="3540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343400" cy="269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4343400" cy="2692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alread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724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size dependence at 200 Ge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ression up to high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istent with dN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dy = 1200 (Au+Au) and dN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dy = 370 (Cu+Cu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5486400"/>
            <a:ext cx="5715000" cy="9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s: What happens at lower energ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ion towards SPS energ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794040"/>
            <a:ext cx="5562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uppression for simila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pure density an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: taking into account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323-4CE7-4AD9-B65A-3EF94F44AE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3767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14800" cy="398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5880" y="4267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46920" y="42800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09480" y="5667480"/>
                <a:ext cx="2819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00 G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fm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12360" y="12952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compil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6760" y="2133720"/>
            <a:ext cx="203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I. Vite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.Lett.B639:38-45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C54-728B-45A0-BBB6-710ABDBB97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2360" y="12952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other compil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629400" cy="32482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4495680" y="2286000"/>
            <a:ext cx="4343040" cy="4038120"/>
            <a:chOff x="4495680" y="2286000"/>
            <a:chExt cx="4343040" cy="40381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495680" y="2286000"/>
              <a:ext cx="4343040" cy="40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563800" y="4462920"/>
              <a:ext cx="0" cy="133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61480" y="4445640"/>
              <a:ext cx="0" cy="133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066680" y="5105520"/>
                <a:ext cx="26910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600 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ability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449000" y="236232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William Horowit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C36-D8DA-42C0-8C29-7C50791470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at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surement up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suppression pattern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at 62.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hancement in peripher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smaller in centr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at 2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gnificant centrality dependence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SPS results at 17.3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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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ilar for different collision systems and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Cu+Cu and Au+Au consistent with partonic energy loss in the medium, fragmentation in the vac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BC1-879C-4FA3-ACC1-72F64554D0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Back to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958-53DD-4EA9-AC10-26C94CE596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Back to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C78-0471-4DE6-8C17-216C010F8C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48320" y="3124080"/>
            <a:ext cx="4190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32004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3 Countries;  62 Institutions;  550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ticipants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5120" y="6477120"/>
            <a:ext cx="16880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as of 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16280" y="3660840"/>
          <a:ext cx="4527720" cy="289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6280" y="3660840"/>
                    <a:ext cx="452772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0" y="152280"/>
          <a:ext cx="4645080" cy="6616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280"/>
                    <a:ext cx="4645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191120" y="384120"/>
            <a:ext cx="4876560" cy="2816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flipV="1">
            <a:off x="4648320" y="3581280"/>
            <a:ext cx="0" cy="3200400"/>
          </a:xfrm>
          <a:prstGeom prst="line">
            <a:avLst/>
          </a:prstGeom>
          <a:ln w="9360">
            <a:solidFill>
              <a:srgbClr val="c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4495680" y="0"/>
            <a:ext cx="1524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alks and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2.5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V. S. Pantue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PHENIX measurements of reaction plane dependence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hotons and pions in Au+Au coll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Yu. Riabo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 of leptonic and hadronic decays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mesons at RHIC by PHENIX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Konn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Identified Hadron Production in Au+Au and Cu+Cu Collisions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T. Isob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ystematic Study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rect Photon Production with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14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L. Pursch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stributions in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200 GeV Au-Au collisions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18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V. Ryabov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Measurements of the multi-hadron decays of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mesons in heavy ion collisions at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 200 GeV in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8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M. Shimomur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Measurement of Azimuthal Anisotropy for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Charged Hadron at RHIC-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50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T. Sakaguch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ystem size and energy dependence of high-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hadron production measured with the PHENIX experiment at RH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51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</a:rPr>
              <a:t>D. Win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High-pT  π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roduction with respect to the reaction plane in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 200 GeV Au+Au collisions at PHEN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D67-367C-4469-8B7F-D96156A955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measured in EM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ectors PbGl, 6 sectors PbSc in 2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0.35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arity fine enough to measu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up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2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14800" y="1573200"/>
            <a:ext cx="5029200" cy="4218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53080" y="3809880"/>
            <a:ext cx="213372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53080" y="3580920"/>
            <a:ext cx="213372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24560" y="3657600"/>
            <a:ext cx="8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333399"/>
                </a:solidFill>
                <a:latin typeface="Hoefler Text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99"/>
                </a:solidFill>
                <a:latin typeface="Hoefler Text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4AF-90A1-43B8-98E7-CD801DEDC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ng Heavy I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: status of investigating energy loss with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 production; dependence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57200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Next step: energy 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B91-DF08-4FAB-8E8E-B81E704967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 Ge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DEA-652D-4321-97A7-FA9CA6DA80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87520" y="1523880"/>
            <a:ext cx="3751200" cy="4649760"/>
            <a:chOff x="587520" y="1523880"/>
            <a:chExt cx="3751200" cy="46497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587520" y="1523880"/>
              <a:ext cx="37512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311280" y="595800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rcRect l="0" t="7144" r="8331" b="2854"/>
          <a:stretch/>
        </p:blipFill>
        <p:spPr>
          <a:xfrm>
            <a:off x="5410080" y="1676520"/>
            <a:ext cx="3246480" cy="4647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+p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at 200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133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98280" y="20574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efler Text"/>
              </a:rPr>
              <a:t>nucl-ex/06100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120" y="3581280"/>
            <a:ext cx="4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7520" y="3505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95880" y="3886200"/>
            <a:ext cx="1067040" cy="393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9960" y="6127920"/>
            <a:ext cx="3224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A. Bazilevsk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70D-E7E6-489C-A4CF-E1425CFA72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257800" y="1320840"/>
            <a:ext cx="3887280" cy="4699080"/>
            <a:chOff x="5257800" y="1320840"/>
            <a:chExt cx="3887280" cy="4699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6089" r="0" b="0"/>
            <a:stretch/>
          </p:blipFill>
          <p:spPr>
            <a:xfrm>
              <a:off x="5257800" y="1320840"/>
              <a:ext cx="3836880" cy="46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644600" y="335268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-ex/06100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te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953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HENIX paper on centrality dependence o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+Au at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+Au as collision system to look for initial sta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4560" y="6019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no strong initial stat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1067040" cy="3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5038560" cy="2600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5038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5038560" cy="258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5029200" cy="26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1760" y="403848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610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6FA-0EC0-4DA7-9024-05EE13383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+Au at 2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RHIC ru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80320" y="6093000"/>
            <a:ext cx="3301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gt; See poster by M.L. Purschk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E72-DE86-4B45-BAAC-61C397825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9:01:43Z</dcterms:created>
  <dc:creator>Baldo Sahlmueller</dc:creator>
  <dc:description/>
  <dc:language>en-US</dc:language>
  <cp:lastModifiedBy>Baldo Sahlmueller</cp:lastModifiedBy>
  <dcterms:modified xsi:type="dcterms:W3CDTF">2006-11-18T14:58:59Z</dcterms:modified>
  <cp:revision>183</cp:revision>
  <dc:subject/>
  <dc:title>Diagnosing energy loss: PHENIX results on high-pT hadron spectra</dc:title>
</cp:coreProperties>
</file>